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606-78E7-461E-8A19-726E41E8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3B5-D390-4059-AF49-D2BDE466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2E9-4AD0-4EFC-A32F-2486E013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9CE-0C1A-4228-BB5D-EB62EB1D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49F9-4996-49C1-B399-B0C69C33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DF7D-DB91-4491-A0ED-D18B04A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D2F2-82D0-4065-B6D7-612C077F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1141-AAAB-4277-9C68-40D895B7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AE97-BCAA-4A3C-9440-E73FDA71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5FB1-6972-4062-9D63-C3E02E8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AAF8-58FA-4239-BD94-8ACEA64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461-7AC5-4340-B108-449C9C75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DC88-B64E-4F22-9951-CD92950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27F-E098-4156-B4E4-EDD412A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EBDA-9B85-41AD-9FFF-96224E30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F517-519E-405C-ADDA-92FE92EA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778-05D6-4CD5-8292-8FF075C0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AC9-FB58-4A3B-95F4-E638C6C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CCB-253F-40BC-944A-8195E82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BC3-8D8B-4A2D-8BC5-A11BBB1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DC3-E336-4B57-96CF-46D46240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BBC-BFED-4017-B857-7E23F9D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158-B7A0-4C1E-9C04-3706666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64B-ACCC-4133-ABDE-5D5DC59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6810-D8EF-48C1-A99F-FADF6A4E13A4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3A46-40CD-4200-8163-1E3D5CB46752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Warm-up:  Estimate the sum or difference.</a:t>
            </a:r>
            <a:endParaRPr b="0" lang="en-US" sz="3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4.81 + 32.5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908.2 - 9.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0.882 + 2.7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71.56 - 8.29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697800" y="1820880"/>
            <a:ext cx="11592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8604" y="5085"/>
                </a:moveTo>
                <a:cubicBezTo>
                  <a:pt x="18760" y="5059"/>
                  <a:pt x="18817" y="5050"/>
                  <a:pt x="18926" y="50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9160" y="1795320"/>
            <a:ext cx="12564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5631" y="4986"/>
                </a:moveTo>
                <a:cubicBezTo>
                  <a:pt x="5607" y="4989"/>
                  <a:pt x="5390" y="4977"/>
                  <a:pt x="5383" y="4986"/>
                </a:cubicBezTo>
                <a:cubicBezTo>
                  <a:pt x="5344" y="5036"/>
                  <a:pt x="5337" y="5146"/>
                  <a:pt x="5333" y="5209"/>
                </a:cubicBezTo>
                <a:cubicBezTo>
                  <a:pt x="5333" y="5217"/>
                  <a:pt x="5333" y="5226"/>
                  <a:pt x="5333" y="5234"/>
                </a:cubicBezTo>
                <a:cubicBezTo>
                  <a:pt x="5439" y="5199"/>
                  <a:pt x="5575" y="5172"/>
                  <a:pt x="5655" y="5283"/>
                </a:cubicBezTo>
                <a:cubicBezTo>
                  <a:pt x="5777" y="5452"/>
                  <a:pt x="5516" y="5518"/>
                  <a:pt x="5407" y="5507"/>
                </a:cubicBezTo>
                <a:cubicBezTo>
                  <a:pt x="5391" y="5499"/>
                  <a:pt x="5374" y="5490"/>
                  <a:pt x="5358" y="54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20920" y="1795320"/>
            <a:ext cx="15228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6648" y="4986"/>
                </a:moveTo>
                <a:cubicBezTo>
                  <a:pt x="6658" y="5103"/>
                  <a:pt x="6672" y="5214"/>
                  <a:pt x="6672" y="5333"/>
                </a:cubicBezTo>
              </a:path>
              <a:path w="423" h="348">
                <a:moveTo>
                  <a:pt x="6449" y="5209"/>
                </a:moveTo>
                <a:cubicBezTo>
                  <a:pt x="6594" y="5209"/>
                  <a:pt x="6732" y="5219"/>
                  <a:pt x="6871" y="518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5840" y="1758960"/>
            <a:ext cx="500040" cy="196920"/>
          </a:xfrm>
          <a:custGeom>
            <a:avLst/>
            <a:gdLst/>
            <a:ahLst/>
            <a:rect l="l" t="t" r="r" b="b"/>
            <a:pathLst>
              <a:path w="1390" h="546">
                <a:moveTo>
                  <a:pt x="7293" y="4911"/>
                </a:moveTo>
                <a:cubicBezTo>
                  <a:pt x="7344" y="4904"/>
                  <a:pt x="7574" y="4821"/>
                  <a:pt x="7565" y="4936"/>
                </a:cubicBezTo>
                <a:cubicBezTo>
                  <a:pt x="7519" y="5029"/>
                  <a:pt x="7508" y="5058"/>
                  <a:pt x="7441" y="5085"/>
                </a:cubicBezTo>
                <a:cubicBezTo>
                  <a:pt x="7433" y="5093"/>
                  <a:pt x="7425" y="5102"/>
                  <a:pt x="7417" y="5110"/>
                </a:cubicBezTo>
                <a:cubicBezTo>
                  <a:pt x="7512" y="5110"/>
                  <a:pt x="7643" y="5142"/>
                  <a:pt x="7665" y="5259"/>
                </a:cubicBezTo>
                <a:cubicBezTo>
                  <a:pt x="7694" y="5416"/>
                  <a:pt x="7439" y="5411"/>
                  <a:pt x="7367" y="5407"/>
                </a:cubicBezTo>
                <a:cubicBezTo>
                  <a:pt x="7359" y="5407"/>
                  <a:pt x="7350" y="5407"/>
                  <a:pt x="7342" y="5407"/>
                </a:cubicBezTo>
              </a:path>
              <a:path w="1390" h="546">
                <a:moveTo>
                  <a:pt x="7863" y="4961"/>
                </a:moveTo>
                <a:cubicBezTo>
                  <a:pt x="7951" y="4946"/>
                  <a:pt x="8004" y="4925"/>
                  <a:pt x="8086" y="4961"/>
                </a:cubicBezTo>
                <a:cubicBezTo>
                  <a:pt x="8050" y="5022"/>
                  <a:pt x="8014" y="5076"/>
                  <a:pt x="7962" y="5110"/>
                </a:cubicBezTo>
                <a:cubicBezTo>
                  <a:pt x="8017" y="5141"/>
                  <a:pt x="8193" y="5168"/>
                  <a:pt x="8136" y="5283"/>
                </a:cubicBezTo>
                <a:cubicBezTo>
                  <a:pt x="8119" y="5318"/>
                  <a:pt x="7869" y="5470"/>
                  <a:pt x="7863" y="5407"/>
                </a:cubicBezTo>
                <a:cubicBezTo>
                  <a:pt x="7871" y="5391"/>
                  <a:pt x="7880" y="5374"/>
                  <a:pt x="7888" y="5358"/>
                </a:cubicBezTo>
              </a:path>
              <a:path w="1390" h="546">
                <a:moveTo>
                  <a:pt x="8434" y="5110"/>
                </a:moveTo>
                <a:cubicBezTo>
                  <a:pt x="8536" y="5095"/>
                  <a:pt x="8586" y="5078"/>
                  <a:pt x="8682" y="5110"/>
                </a:cubicBezTo>
              </a:path>
              <a:path w="1390" h="546">
                <a:moveTo>
                  <a:pt x="8458" y="5308"/>
                </a:moveTo>
                <a:cubicBezTo>
                  <a:pt x="8511" y="5282"/>
                  <a:pt x="8548" y="5259"/>
                  <a:pt x="8607" y="5259"/>
                </a:cubicBezTo>
                <a:cubicBezTo>
                  <a:pt x="8615" y="5259"/>
                  <a:pt x="8624" y="5259"/>
                  <a:pt x="8632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5800" y="1731960"/>
            <a:ext cx="365040" cy="179280"/>
          </a:xfrm>
          <a:custGeom>
            <a:avLst/>
            <a:gdLst/>
            <a:ahLst/>
            <a:rect l="l" t="t" r="r" b="b"/>
            <a:pathLst>
              <a:path w="1018" h="497">
                <a:moveTo>
                  <a:pt x="9153" y="4887"/>
                </a:moveTo>
                <a:cubicBezTo>
                  <a:pt x="9204" y="4876"/>
                  <a:pt x="9492" y="4808"/>
                  <a:pt x="9475" y="4936"/>
                </a:cubicBezTo>
                <a:cubicBezTo>
                  <a:pt x="9426" y="5011"/>
                  <a:pt x="9410" y="5036"/>
                  <a:pt x="9376" y="5085"/>
                </a:cubicBezTo>
                <a:cubicBezTo>
                  <a:pt x="9497" y="5085"/>
                  <a:pt x="9588" y="5116"/>
                  <a:pt x="9699" y="5159"/>
                </a:cubicBezTo>
                <a:cubicBezTo>
                  <a:pt x="9619" y="5297"/>
                  <a:pt x="9546" y="5336"/>
                  <a:pt x="9376" y="5308"/>
                </a:cubicBezTo>
                <a:cubicBezTo>
                  <a:pt x="9351" y="5300"/>
                  <a:pt x="9327" y="5291"/>
                  <a:pt x="9302" y="5283"/>
                </a:cubicBezTo>
              </a:path>
              <a:path w="1018" h="497">
                <a:moveTo>
                  <a:pt x="9971" y="4837"/>
                </a:moveTo>
                <a:cubicBezTo>
                  <a:pt x="9911" y="4842"/>
                  <a:pt x="9878" y="4851"/>
                  <a:pt x="9823" y="4862"/>
                </a:cubicBezTo>
                <a:cubicBezTo>
                  <a:pt x="9865" y="4908"/>
                  <a:pt x="10190" y="5114"/>
                  <a:pt x="10170" y="5184"/>
                </a:cubicBezTo>
                <a:cubicBezTo>
                  <a:pt x="10085" y="5213"/>
                  <a:pt x="10051" y="5226"/>
                  <a:pt x="9996" y="5259"/>
                </a:cubicBezTo>
                <a:cubicBezTo>
                  <a:pt x="9968" y="5119"/>
                  <a:pt x="10041" y="5043"/>
                  <a:pt x="10096" y="4911"/>
                </a:cubicBezTo>
                <a:cubicBezTo>
                  <a:pt x="10115" y="4854"/>
                  <a:pt x="10123" y="4847"/>
                  <a:pt x="10120" y="481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9840" y="169704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3519" y="4911"/>
                </a:moveTo>
                <a:cubicBezTo>
                  <a:pt x="13519" y="4852"/>
                  <a:pt x="13510" y="4832"/>
                  <a:pt x="13494" y="4762"/>
                </a:cubicBezTo>
                <a:cubicBezTo>
                  <a:pt x="13371" y="4733"/>
                  <a:pt x="13098" y="4752"/>
                  <a:pt x="13196" y="4986"/>
                </a:cubicBezTo>
                <a:cubicBezTo>
                  <a:pt x="13265" y="5151"/>
                  <a:pt x="13468" y="4904"/>
                  <a:pt x="13519" y="4862"/>
                </a:cubicBezTo>
                <a:cubicBezTo>
                  <a:pt x="13519" y="4854"/>
                  <a:pt x="13519" y="4845"/>
                  <a:pt x="13519" y="4837"/>
                </a:cubicBezTo>
                <a:cubicBezTo>
                  <a:pt x="13581" y="4944"/>
                  <a:pt x="13530" y="5110"/>
                  <a:pt x="13543" y="5234"/>
                </a:cubicBezTo>
                <a:cubicBezTo>
                  <a:pt x="13567" y="5329"/>
                  <a:pt x="13573" y="5365"/>
                  <a:pt x="13618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16680" y="1714680"/>
            <a:ext cx="241200" cy="19656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14213" y="4787"/>
                </a:moveTo>
                <a:cubicBezTo>
                  <a:pt x="14213" y="4646"/>
                  <a:pt x="14199" y="5019"/>
                  <a:pt x="14213" y="5159"/>
                </a:cubicBezTo>
                <a:cubicBezTo>
                  <a:pt x="14219" y="5225"/>
                  <a:pt x="14238" y="5250"/>
                  <a:pt x="14238" y="5308"/>
                </a:cubicBezTo>
              </a:path>
              <a:path w="671" h="547">
                <a:moveTo>
                  <a:pt x="14610" y="4787"/>
                </a:moveTo>
                <a:cubicBezTo>
                  <a:pt x="14552" y="4904"/>
                  <a:pt x="14408" y="5141"/>
                  <a:pt x="14560" y="5259"/>
                </a:cubicBezTo>
                <a:cubicBezTo>
                  <a:pt x="14728" y="5389"/>
                  <a:pt x="14909" y="5132"/>
                  <a:pt x="14883" y="4986"/>
                </a:cubicBezTo>
                <a:cubicBezTo>
                  <a:pt x="14865" y="4885"/>
                  <a:pt x="14813" y="4897"/>
                  <a:pt x="14784" y="483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99080" y="1839960"/>
            <a:ext cx="1080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5553" y="5110"/>
                </a:moveTo>
                <a:cubicBezTo>
                  <a:pt x="15656" y="5110"/>
                  <a:pt x="15757" y="5094"/>
                  <a:pt x="15850" y="513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1776240"/>
            <a:ext cx="792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6495" y="4936"/>
                </a:moveTo>
                <a:cubicBezTo>
                  <a:pt x="16513" y="5063"/>
                  <a:pt x="16520" y="5179"/>
                  <a:pt x="16520" y="530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6760" y="1704960"/>
            <a:ext cx="161640" cy="17928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7140" y="4762"/>
                </a:moveTo>
                <a:cubicBezTo>
                  <a:pt x="17033" y="4959"/>
                  <a:pt x="17015" y="4997"/>
                  <a:pt x="17041" y="5209"/>
                </a:cubicBezTo>
                <a:cubicBezTo>
                  <a:pt x="17224" y="5209"/>
                  <a:pt x="17565" y="5137"/>
                  <a:pt x="17388" y="4862"/>
                </a:cubicBezTo>
                <a:cubicBezTo>
                  <a:pt x="17296" y="4788"/>
                  <a:pt x="17285" y="4784"/>
                  <a:pt x="17239" y="473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97800" y="1768320"/>
            <a:ext cx="115920" cy="97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8604" y="4911"/>
                </a:moveTo>
                <a:cubicBezTo>
                  <a:pt x="18713" y="4922"/>
                  <a:pt x="18814" y="4936"/>
                  <a:pt x="18926" y="493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7920" y="1714680"/>
            <a:ext cx="687240" cy="214200"/>
          </a:xfrm>
          <a:custGeom>
            <a:avLst/>
            <a:gdLst/>
            <a:ahLst/>
            <a:rect l="l" t="t" r="r" b="b"/>
            <a:pathLst>
              <a:path w="1911" h="597">
                <a:moveTo>
                  <a:pt x="19968" y="4936"/>
                </a:moveTo>
                <a:cubicBezTo>
                  <a:pt x="19888" y="4777"/>
                  <a:pt x="19733" y="4701"/>
                  <a:pt x="19571" y="4862"/>
                </a:cubicBezTo>
                <a:cubicBezTo>
                  <a:pt x="19554" y="4903"/>
                  <a:pt x="19538" y="4945"/>
                  <a:pt x="19521" y="4986"/>
                </a:cubicBezTo>
                <a:cubicBezTo>
                  <a:pt x="19694" y="5071"/>
                  <a:pt x="19777" y="5011"/>
                  <a:pt x="19943" y="4911"/>
                </a:cubicBezTo>
                <a:cubicBezTo>
                  <a:pt x="19943" y="5039"/>
                  <a:pt x="19958" y="5157"/>
                  <a:pt x="19968" y="5283"/>
                </a:cubicBezTo>
                <a:cubicBezTo>
                  <a:pt x="19968" y="5308"/>
                  <a:pt x="19968" y="5333"/>
                  <a:pt x="19968" y="5358"/>
                </a:cubicBezTo>
              </a:path>
              <a:path w="1911" h="597">
                <a:moveTo>
                  <a:pt x="20464" y="4762"/>
                </a:moveTo>
                <a:cubicBezTo>
                  <a:pt x="20312" y="4905"/>
                  <a:pt x="20293" y="4957"/>
                  <a:pt x="20241" y="5159"/>
                </a:cubicBezTo>
                <a:cubicBezTo>
                  <a:pt x="20367" y="5203"/>
                  <a:pt x="20810" y="5296"/>
                  <a:pt x="20712" y="4986"/>
                </a:cubicBezTo>
                <a:cubicBezTo>
                  <a:pt x="20627" y="4880"/>
                  <a:pt x="20613" y="4851"/>
                  <a:pt x="20538" y="4812"/>
                </a:cubicBezTo>
              </a:path>
              <a:path w="1911" h="597">
                <a:moveTo>
                  <a:pt x="21158" y="4762"/>
                </a:moveTo>
                <a:cubicBezTo>
                  <a:pt x="21013" y="4909"/>
                  <a:pt x="20973" y="4999"/>
                  <a:pt x="21034" y="5184"/>
                </a:cubicBezTo>
                <a:cubicBezTo>
                  <a:pt x="21254" y="5161"/>
                  <a:pt x="21518" y="5157"/>
                  <a:pt x="21357" y="4887"/>
                </a:cubicBezTo>
                <a:cubicBezTo>
                  <a:pt x="21292" y="4801"/>
                  <a:pt x="21284" y="4767"/>
                  <a:pt x="21208" y="478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30720" y="322416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9327" y="9004"/>
                </a:moveTo>
                <a:cubicBezTo>
                  <a:pt x="9429" y="8972"/>
                  <a:pt x="9480" y="8926"/>
                  <a:pt x="9550" y="8979"/>
                </a:cubicBezTo>
              </a:path>
              <a:path w="324" h="225">
                <a:moveTo>
                  <a:pt x="9252" y="9178"/>
                </a:moveTo>
                <a:cubicBezTo>
                  <a:pt x="9409" y="9152"/>
                  <a:pt x="9467" y="9142"/>
                  <a:pt x="9575" y="912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71800" y="3259080"/>
            <a:ext cx="9360" cy="206280"/>
          </a:xfrm>
          <a:custGeom>
            <a:avLst/>
            <a:gdLst/>
            <a:ahLst/>
            <a:rect l="l" t="t" r="r" b="b"/>
            <a:pathLst>
              <a:path w="25" h="571">
                <a:moveTo>
                  <a:pt x="5755" y="9054"/>
                </a:moveTo>
                <a:cubicBezTo>
                  <a:pt x="5755" y="9167"/>
                  <a:pt x="5688" y="9744"/>
                  <a:pt x="5779" y="952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14760" y="325908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7640" y="9054"/>
                </a:moveTo>
                <a:cubicBezTo>
                  <a:pt x="7640" y="9181"/>
                  <a:pt x="7666" y="9301"/>
                  <a:pt x="7689" y="9426"/>
                </a:cubicBezTo>
              </a:path>
              <a:path w="398" h="373">
                <a:moveTo>
                  <a:pt x="7541" y="9227"/>
                </a:moveTo>
                <a:cubicBezTo>
                  <a:pt x="7669" y="9210"/>
                  <a:pt x="7808" y="9178"/>
                  <a:pt x="7938" y="917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71880" y="321480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8632" y="8979"/>
                </a:moveTo>
                <a:cubicBezTo>
                  <a:pt x="8677" y="8968"/>
                  <a:pt x="8865" y="8890"/>
                  <a:pt x="8880" y="8930"/>
                </a:cubicBezTo>
                <a:cubicBezTo>
                  <a:pt x="8929" y="9062"/>
                  <a:pt x="8700" y="9121"/>
                  <a:pt x="8632" y="9153"/>
                </a:cubicBezTo>
                <a:cubicBezTo>
                  <a:pt x="8694" y="9169"/>
                  <a:pt x="8923" y="9099"/>
                  <a:pt x="8930" y="9203"/>
                </a:cubicBezTo>
                <a:cubicBezTo>
                  <a:pt x="8942" y="9395"/>
                  <a:pt x="8521" y="9505"/>
                  <a:pt x="8533" y="9401"/>
                </a:cubicBezTo>
                <a:cubicBezTo>
                  <a:pt x="8558" y="9368"/>
                  <a:pt x="8582" y="9335"/>
                  <a:pt x="8607" y="930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27280" y="3106800"/>
            <a:ext cx="125640" cy="26028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9847" y="8880"/>
                </a:moveTo>
                <a:cubicBezTo>
                  <a:pt x="9834" y="8946"/>
                  <a:pt x="9808" y="9010"/>
                  <a:pt x="9798" y="9079"/>
                </a:cubicBezTo>
                <a:cubicBezTo>
                  <a:pt x="9943" y="9102"/>
                  <a:pt x="10008" y="9099"/>
                  <a:pt x="10145" y="9054"/>
                </a:cubicBezTo>
              </a:path>
              <a:path w="348" h="720">
                <a:moveTo>
                  <a:pt x="10145" y="8632"/>
                </a:moveTo>
                <a:cubicBezTo>
                  <a:pt x="10116" y="8869"/>
                  <a:pt x="10136" y="9090"/>
                  <a:pt x="10145" y="9327"/>
                </a:cubicBezTo>
                <a:cubicBezTo>
                  <a:pt x="10145" y="9335"/>
                  <a:pt x="10145" y="9343"/>
                  <a:pt x="10145" y="935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84840" y="3178080"/>
            <a:ext cx="384120" cy="1890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13568" y="8930"/>
                </a:moveTo>
                <a:cubicBezTo>
                  <a:pt x="13729" y="8901"/>
                  <a:pt x="13898" y="8891"/>
                  <a:pt x="14064" y="8880"/>
                </a:cubicBezTo>
                <a:cubicBezTo>
                  <a:pt x="13997" y="9028"/>
                  <a:pt x="13838" y="9156"/>
                  <a:pt x="13742" y="9302"/>
                </a:cubicBezTo>
                <a:cubicBezTo>
                  <a:pt x="13742" y="9327"/>
                  <a:pt x="13742" y="9335"/>
                  <a:pt x="13742" y="9351"/>
                </a:cubicBezTo>
              </a:path>
              <a:path w="1068" h="522">
                <a:moveTo>
                  <a:pt x="14312" y="8930"/>
                </a:moveTo>
                <a:cubicBezTo>
                  <a:pt x="14325" y="8879"/>
                  <a:pt x="14387" y="8842"/>
                  <a:pt x="14436" y="8830"/>
                </a:cubicBezTo>
                <a:cubicBezTo>
                  <a:pt x="14453" y="8830"/>
                  <a:pt x="14469" y="8830"/>
                  <a:pt x="14486" y="8830"/>
                </a:cubicBezTo>
                <a:cubicBezTo>
                  <a:pt x="14486" y="8989"/>
                  <a:pt x="14444" y="9055"/>
                  <a:pt x="14337" y="9178"/>
                </a:cubicBezTo>
                <a:cubicBezTo>
                  <a:pt x="14250" y="9265"/>
                  <a:pt x="14226" y="9284"/>
                  <a:pt x="14188" y="9351"/>
                </a:cubicBezTo>
                <a:cubicBezTo>
                  <a:pt x="14315" y="9351"/>
                  <a:pt x="14433" y="9337"/>
                  <a:pt x="14560" y="9327"/>
                </a:cubicBezTo>
                <a:cubicBezTo>
                  <a:pt x="14602" y="9327"/>
                  <a:pt x="14610" y="9327"/>
                  <a:pt x="14635" y="932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64080" y="3241800"/>
            <a:ext cx="117720" cy="9360"/>
          </a:xfrm>
          <a:custGeom>
            <a:avLst/>
            <a:gdLst/>
            <a:ahLst/>
            <a:rect l="l" t="t" r="r" b="b"/>
            <a:pathLst>
              <a:path w="324" h="26">
                <a:moveTo>
                  <a:pt x="15180" y="9029"/>
                </a:moveTo>
                <a:cubicBezTo>
                  <a:pt x="15289" y="9029"/>
                  <a:pt x="15395" y="9010"/>
                  <a:pt x="15503" y="900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86280" y="3197160"/>
            <a:ext cx="160560" cy="18756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16495" y="8880"/>
                </a:moveTo>
                <a:cubicBezTo>
                  <a:pt x="16330" y="8898"/>
                  <a:pt x="16216" y="8949"/>
                  <a:pt x="16073" y="9029"/>
                </a:cubicBezTo>
                <a:cubicBezTo>
                  <a:pt x="16225" y="9115"/>
                  <a:pt x="16372" y="9184"/>
                  <a:pt x="16520" y="9277"/>
                </a:cubicBezTo>
                <a:cubicBezTo>
                  <a:pt x="16395" y="9385"/>
                  <a:pt x="16038" y="9485"/>
                  <a:pt x="16272" y="9203"/>
                </a:cubicBezTo>
                <a:cubicBezTo>
                  <a:pt x="16374" y="9080"/>
                  <a:pt x="16463" y="9039"/>
                  <a:pt x="16520" y="890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6960" y="3232080"/>
            <a:ext cx="144360" cy="63720"/>
          </a:xfrm>
          <a:custGeom>
            <a:avLst/>
            <a:gdLst/>
            <a:ahLst/>
            <a:rect l="l" t="t" r="r" b="b"/>
            <a:pathLst>
              <a:path w="398" h="175">
                <a:moveTo>
                  <a:pt x="17438" y="8979"/>
                </a:moveTo>
                <a:cubicBezTo>
                  <a:pt x="17562" y="8979"/>
                  <a:pt x="17686" y="8979"/>
                  <a:pt x="17810" y="8979"/>
                </a:cubicBezTo>
              </a:path>
              <a:path w="398" h="175">
                <a:moveTo>
                  <a:pt x="17562" y="9128"/>
                </a:moveTo>
                <a:cubicBezTo>
                  <a:pt x="17654" y="9144"/>
                  <a:pt x="17738" y="9153"/>
                  <a:pt x="17835" y="915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80160" y="3089160"/>
            <a:ext cx="374760" cy="277920"/>
          </a:xfrm>
          <a:custGeom>
            <a:avLst/>
            <a:gdLst/>
            <a:ahLst/>
            <a:rect l="l" t="t" r="r" b="b"/>
            <a:pathLst>
              <a:path w="1043" h="770">
                <a:moveTo>
                  <a:pt x="18678" y="8756"/>
                </a:moveTo>
                <a:cubicBezTo>
                  <a:pt x="18678" y="8721"/>
                  <a:pt x="18620" y="8964"/>
                  <a:pt x="18604" y="9004"/>
                </a:cubicBezTo>
                <a:cubicBezTo>
                  <a:pt x="18549" y="9139"/>
                  <a:pt x="18489" y="9327"/>
                  <a:pt x="18703" y="9351"/>
                </a:cubicBezTo>
                <a:cubicBezTo>
                  <a:pt x="18836" y="9366"/>
                  <a:pt x="18965" y="9257"/>
                  <a:pt x="19025" y="9153"/>
                </a:cubicBezTo>
                <a:cubicBezTo>
                  <a:pt x="19033" y="9136"/>
                  <a:pt x="19042" y="9120"/>
                  <a:pt x="19050" y="9103"/>
                </a:cubicBezTo>
                <a:cubicBezTo>
                  <a:pt x="18936" y="9029"/>
                  <a:pt x="18910" y="9054"/>
                  <a:pt x="18852" y="9178"/>
                </a:cubicBezTo>
                <a:cubicBezTo>
                  <a:pt x="18814" y="9260"/>
                  <a:pt x="18799" y="9303"/>
                  <a:pt x="18876" y="9277"/>
                </a:cubicBezTo>
              </a:path>
              <a:path w="1043" h="770">
                <a:moveTo>
                  <a:pt x="19298" y="8756"/>
                </a:moveTo>
                <a:cubicBezTo>
                  <a:pt x="19349" y="8807"/>
                  <a:pt x="19307" y="8879"/>
                  <a:pt x="19273" y="8954"/>
                </a:cubicBezTo>
                <a:cubicBezTo>
                  <a:pt x="19354" y="9002"/>
                  <a:pt x="19449" y="8958"/>
                  <a:pt x="19546" y="8954"/>
                </a:cubicBezTo>
                <a:cubicBezTo>
                  <a:pt x="19563" y="8954"/>
                  <a:pt x="19579" y="8954"/>
                  <a:pt x="19596" y="8954"/>
                </a:cubicBezTo>
              </a:path>
              <a:path w="1043" h="770">
                <a:moveTo>
                  <a:pt x="19571" y="8582"/>
                </a:moveTo>
                <a:cubicBezTo>
                  <a:pt x="19571" y="8740"/>
                  <a:pt x="19593" y="8895"/>
                  <a:pt x="19596" y="9054"/>
                </a:cubicBezTo>
                <a:cubicBezTo>
                  <a:pt x="19597" y="9128"/>
                  <a:pt x="19596" y="9203"/>
                  <a:pt x="19596" y="927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November 15, 2011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Objective:  Students will accurately add and subtract decimals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bjective :  Students will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accurately add and subtract decimals</a:t>
            </a:r>
            <a:endParaRPr b="0" lang="en-US" sz="32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To add or subtract decimals, line up the decimal points.  Then add or subtract as usual and bring the decimal point straight down.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8f8f8"/>
                </a:solidFill>
                <a:latin typeface="Verdana"/>
              </a:rPr>
              <a:t>accurately add and subtract decimals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Examples:  We must always line up the decimals by the decimal point and write zeros in any “empty” plac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1.) 6.02 + 4.9  we write as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2.) 8.284 – 3.53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we write as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3.) 5 + 2.859 we write as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991040" y="2928960"/>
            <a:ext cx="1930320" cy="2714760"/>
          </a:xfrm>
          <a:custGeom>
            <a:avLst/>
            <a:gdLst/>
            <a:ahLst/>
            <a:rect l="l" t="t" r="r" b="b"/>
            <a:pathLst>
              <a:path w="5359" h="7542">
                <a:moveTo>
                  <a:pt x="16768" y="8136"/>
                </a:moveTo>
                <a:cubicBezTo>
                  <a:pt x="16776" y="8136"/>
                  <a:pt x="16785" y="8136"/>
                  <a:pt x="16793" y="8136"/>
                </a:cubicBezTo>
              </a:path>
              <a:path w="5359" h="7542">
                <a:moveTo>
                  <a:pt x="15255" y="8880"/>
                </a:moveTo>
                <a:cubicBezTo>
                  <a:pt x="15413" y="8862"/>
                  <a:pt x="15568" y="8848"/>
                  <a:pt x="15726" y="8830"/>
                </a:cubicBezTo>
              </a:path>
              <a:path w="5359" h="7542">
                <a:moveTo>
                  <a:pt x="16718" y="8855"/>
                </a:moveTo>
                <a:cubicBezTo>
                  <a:pt x="16718" y="8863"/>
                  <a:pt x="16718" y="8872"/>
                  <a:pt x="16718" y="8880"/>
                </a:cubicBezTo>
              </a:path>
              <a:path w="5359" h="7542">
                <a:moveTo>
                  <a:pt x="17289" y="11633"/>
                </a:moveTo>
                <a:cubicBezTo>
                  <a:pt x="17289" y="11666"/>
                  <a:pt x="17297" y="11674"/>
                  <a:pt x="17338" y="11658"/>
                </a:cubicBezTo>
              </a:path>
              <a:path w="5359" h="7542">
                <a:moveTo>
                  <a:pt x="17487" y="12353"/>
                </a:moveTo>
                <a:cubicBezTo>
                  <a:pt x="17487" y="12361"/>
                  <a:pt x="17487" y="12370"/>
                  <a:pt x="17487" y="12378"/>
                </a:cubicBezTo>
              </a:path>
              <a:path w="5359" h="7542">
                <a:moveTo>
                  <a:pt x="19224" y="12551"/>
                </a:moveTo>
                <a:cubicBezTo>
                  <a:pt x="19217" y="12703"/>
                  <a:pt x="19188" y="12848"/>
                  <a:pt x="19174" y="12998"/>
                </a:cubicBezTo>
              </a:path>
              <a:path w="5359" h="7542">
                <a:moveTo>
                  <a:pt x="17760" y="13196"/>
                </a:moveTo>
                <a:lnTo>
                  <a:pt x="17760" y="13196"/>
                </a:lnTo>
              </a:path>
              <a:path w="5359" h="7542">
                <a:moveTo>
                  <a:pt x="13866" y="15652"/>
                </a:moveTo>
                <a:cubicBezTo>
                  <a:pt x="14008" y="15626"/>
                  <a:pt x="14147" y="15595"/>
                  <a:pt x="14288" y="15577"/>
                </a:cubicBezTo>
              </a:path>
              <a:path w="5359" h="7542">
                <a:moveTo>
                  <a:pt x="15032" y="15677"/>
                </a:moveTo>
                <a:cubicBezTo>
                  <a:pt x="15048" y="15677"/>
                  <a:pt x="15065" y="15677"/>
                  <a:pt x="15081" y="15677"/>
                </a:cubicBezTo>
              </a:path>
              <a:path w="5359" h="7542">
                <a:moveTo>
                  <a:pt x="14957" y="14585"/>
                </a:moveTo>
                <a:cubicBezTo>
                  <a:pt x="14964" y="14619"/>
                  <a:pt x="14975" y="14650"/>
                  <a:pt x="14982" y="1468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27800" y="2759040"/>
            <a:ext cx="1063440" cy="830160"/>
          </a:xfrm>
          <a:custGeom>
            <a:avLst/>
            <a:gdLst/>
            <a:ahLst/>
            <a:rect l="l" t="t" r="r" b="b"/>
            <a:pathLst>
              <a:path w="2953" h="2307">
                <a:moveTo>
                  <a:pt x="16247" y="7689"/>
                </a:moveTo>
                <a:cubicBezTo>
                  <a:pt x="16290" y="7606"/>
                  <a:pt x="16208" y="7801"/>
                  <a:pt x="16173" y="7888"/>
                </a:cubicBezTo>
                <a:cubicBezTo>
                  <a:pt x="16127" y="8003"/>
                  <a:pt x="16026" y="8206"/>
                  <a:pt x="16222" y="8235"/>
                </a:cubicBezTo>
                <a:cubicBezTo>
                  <a:pt x="16388" y="8259"/>
                  <a:pt x="16497" y="8179"/>
                  <a:pt x="16545" y="8037"/>
                </a:cubicBezTo>
                <a:cubicBezTo>
                  <a:pt x="16420" y="7974"/>
                  <a:pt x="16362" y="7968"/>
                  <a:pt x="16321" y="8136"/>
                </a:cubicBezTo>
                <a:cubicBezTo>
                  <a:pt x="16321" y="8209"/>
                  <a:pt x="16320" y="8233"/>
                  <a:pt x="16371" y="8260"/>
                </a:cubicBezTo>
              </a:path>
              <a:path w="2953" h="2307">
                <a:moveTo>
                  <a:pt x="15354" y="8657"/>
                </a:moveTo>
                <a:cubicBezTo>
                  <a:pt x="15371" y="8769"/>
                  <a:pt x="15379" y="8866"/>
                  <a:pt x="15379" y="8979"/>
                </a:cubicBezTo>
              </a:path>
              <a:path w="2953" h="2307">
                <a:moveTo>
                  <a:pt x="16272" y="8682"/>
                </a:moveTo>
                <a:cubicBezTo>
                  <a:pt x="16262" y="8706"/>
                  <a:pt x="16173" y="8902"/>
                  <a:pt x="16173" y="8830"/>
                </a:cubicBezTo>
                <a:cubicBezTo>
                  <a:pt x="16279" y="8739"/>
                  <a:pt x="16314" y="8834"/>
                  <a:pt x="16446" y="8830"/>
                </a:cubicBezTo>
                <a:cubicBezTo>
                  <a:pt x="16535" y="8801"/>
                  <a:pt x="16563" y="8777"/>
                  <a:pt x="16545" y="8682"/>
                </a:cubicBezTo>
              </a:path>
              <a:path w="2953" h="2307">
                <a:moveTo>
                  <a:pt x="16470" y="8483"/>
                </a:moveTo>
                <a:cubicBezTo>
                  <a:pt x="16477" y="8640"/>
                  <a:pt x="16518" y="8814"/>
                  <a:pt x="16470" y="8954"/>
                </a:cubicBezTo>
              </a:path>
              <a:path w="2953" h="2307">
                <a:moveTo>
                  <a:pt x="17314" y="8582"/>
                </a:moveTo>
                <a:cubicBezTo>
                  <a:pt x="17301" y="8521"/>
                  <a:pt x="17256" y="8453"/>
                  <a:pt x="17165" y="8508"/>
                </a:cubicBezTo>
                <a:cubicBezTo>
                  <a:pt x="17080" y="8593"/>
                  <a:pt x="17054" y="8606"/>
                  <a:pt x="17041" y="8682"/>
                </a:cubicBezTo>
                <a:cubicBezTo>
                  <a:pt x="17199" y="8747"/>
                  <a:pt x="17181" y="8656"/>
                  <a:pt x="17264" y="8558"/>
                </a:cubicBezTo>
                <a:cubicBezTo>
                  <a:pt x="17267" y="8555"/>
                  <a:pt x="17314" y="8860"/>
                  <a:pt x="17314" y="8905"/>
                </a:cubicBezTo>
              </a:path>
              <a:path w="2953" h="2307">
                <a:moveTo>
                  <a:pt x="17735" y="8483"/>
                </a:moveTo>
                <a:cubicBezTo>
                  <a:pt x="17614" y="8669"/>
                  <a:pt x="17596" y="8640"/>
                  <a:pt x="17686" y="8830"/>
                </a:cubicBezTo>
                <a:cubicBezTo>
                  <a:pt x="17810" y="8805"/>
                  <a:pt x="18119" y="8692"/>
                  <a:pt x="17884" y="8533"/>
                </a:cubicBezTo>
                <a:cubicBezTo>
                  <a:pt x="17851" y="8525"/>
                  <a:pt x="17818" y="8516"/>
                  <a:pt x="17785" y="8508"/>
                </a:cubicBezTo>
              </a:path>
              <a:path w="2953" h="2307">
                <a:moveTo>
                  <a:pt x="16024" y="9351"/>
                </a:moveTo>
                <a:cubicBezTo>
                  <a:pt x="16553" y="9265"/>
                  <a:pt x="17076" y="9218"/>
                  <a:pt x="17611" y="9178"/>
                </a:cubicBezTo>
                <a:cubicBezTo>
                  <a:pt x="17765" y="9167"/>
                  <a:pt x="17887" y="9158"/>
                  <a:pt x="18033" y="9153"/>
                </a:cubicBezTo>
              </a:path>
              <a:path w="2953" h="2307">
                <a:moveTo>
                  <a:pt x="18033" y="9302"/>
                </a:moveTo>
                <a:cubicBezTo>
                  <a:pt x="17966" y="9302"/>
                  <a:pt x="18117" y="9302"/>
                  <a:pt x="18132" y="9302"/>
                </a:cubicBezTo>
                <a:cubicBezTo>
                  <a:pt x="18078" y="9476"/>
                  <a:pt x="17963" y="9528"/>
                  <a:pt x="17810" y="9649"/>
                </a:cubicBezTo>
                <a:cubicBezTo>
                  <a:pt x="17802" y="9657"/>
                  <a:pt x="17793" y="9666"/>
                  <a:pt x="17785" y="9674"/>
                </a:cubicBezTo>
                <a:cubicBezTo>
                  <a:pt x="17924" y="9651"/>
                  <a:pt x="18066" y="9630"/>
                  <a:pt x="18207" y="9624"/>
                </a:cubicBezTo>
                <a:cubicBezTo>
                  <a:pt x="18256" y="9624"/>
                  <a:pt x="18273" y="9624"/>
                  <a:pt x="18306" y="9624"/>
                </a:cubicBezTo>
              </a:path>
              <a:path w="2953" h="2307">
                <a:moveTo>
                  <a:pt x="17264" y="9525"/>
                </a:moveTo>
                <a:cubicBezTo>
                  <a:pt x="17318" y="9471"/>
                  <a:pt x="17389" y="9444"/>
                  <a:pt x="17338" y="9376"/>
                </a:cubicBezTo>
                <a:cubicBezTo>
                  <a:pt x="17259" y="9369"/>
                  <a:pt x="17021" y="9432"/>
                  <a:pt x="17140" y="9575"/>
                </a:cubicBezTo>
                <a:cubicBezTo>
                  <a:pt x="17236" y="9691"/>
                  <a:pt x="17330" y="9497"/>
                  <a:pt x="17363" y="9451"/>
                </a:cubicBezTo>
                <a:cubicBezTo>
                  <a:pt x="17371" y="9443"/>
                  <a:pt x="17380" y="9434"/>
                  <a:pt x="17388" y="9426"/>
                </a:cubicBezTo>
                <a:cubicBezTo>
                  <a:pt x="17388" y="9535"/>
                  <a:pt x="17405" y="9644"/>
                  <a:pt x="17363" y="9748"/>
                </a:cubicBezTo>
                <a:cubicBezTo>
                  <a:pt x="17355" y="9756"/>
                  <a:pt x="17346" y="9765"/>
                  <a:pt x="17338" y="9773"/>
                </a:cubicBezTo>
              </a:path>
              <a:path w="2953" h="2307">
                <a:moveTo>
                  <a:pt x="16942" y="9847"/>
                </a:moveTo>
                <a:cubicBezTo>
                  <a:pt x="16942" y="9872"/>
                  <a:pt x="16942" y="9880"/>
                  <a:pt x="16942" y="9897"/>
                </a:cubicBezTo>
              </a:path>
              <a:path w="2953" h="2307">
                <a:moveTo>
                  <a:pt x="16073" y="9674"/>
                </a:moveTo>
                <a:cubicBezTo>
                  <a:pt x="16114" y="9783"/>
                  <a:pt x="16039" y="9883"/>
                  <a:pt x="16049" y="9971"/>
                </a:cubicBezTo>
                <a:cubicBezTo>
                  <a:pt x="16057" y="9971"/>
                  <a:pt x="16065" y="9971"/>
                  <a:pt x="16073" y="9971"/>
                </a:cubicBezTo>
              </a:path>
              <a:path w="2953" h="2307">
                <a:moveTo>
                  <a:pt x="16446" y="9575"/>
                </a:moveTo>
                <a:cubicBezTo>
                  <a:pt x="16338" y="9734"/>
                  <a:pt x="16326" y="9784"/>
                  <a:pt x="16396" y="9947"/>
                </a:cubicBezTo>
                <a:cubicBezTo>
                  <a:pt x="16516" y="9899"/>
                  <a:pt x="16711" y="9779"/>
                  <a:pt x="16520" y="9649"/>
                </a:cubicBezTo>
                <a:cubicBezTo>
                  <a:pt x="16443" y="9629"/>
                  <a:pt x="16425" y="9637"/>
                  <a:pt x="16396" y="95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894120"/>
            <a:ext cx="1079640" cy="838080"/>
          </a:xfrm>
          <a:custGeom>
            <a:avLst/>
            <a:gdLst/>
            <a:ahLst/>
            <a:rect l="l" t="t" r="r" b="b"/>
            <a:pathLst>
              <a:path w="3002" h="2332">
                <a:moveTo>
                  <a:pt x="16991" y="11336"/>
                </a:moveTo>
                <a:cubicBezTo>
                  <a:pt x="16916" y="11336"/>
                  <a:pt x="16859" y="11377"/>
                  <a:pt x="16793" y="11410"/>
                </a:cubicBezTo>
                <a:cubicBezTo>
                  <a:pt x="16849" y="11480"/>
                  <a:pt x="17115" y="11637"/>
                  <a:pt x="17041" y="11757"/>
                </a:cubicBezTo>
                <a:cubicBezTo>
                  <a:pt x="16944" y="11806"/>
                  <a:pt x="16914" y="11823"/>
                  <a:pt x="16842" y="11782"/>
                </a:cubicBezTo>
                <a:cubicBezTo>
                  <a:pt x="16877" y="11644"/>
                  <a:pt x="16961" y="11527"/>
                  <a:pt x="17041" y="11410"/>
                </a:cubicBezTo>
                <a:cubicBezTo>
                  <a:pt x="17066" y="11385"/>
                  <a:pt x="17074" y="11377"/>
                  <a:pt x="17041" y="11361"/>
                </a:cubicBezTo>
              </a:path>
              <a:path w="3002" h="2332">
                <a:moveTo>
                  <a:pt x="17611" y="11237"/>
                </a:moveTo>
                <a:cubicBezTo>
                  <a:pt x="17799" y="11253"/>
                  <a:pt x="17931" y="11313"/>
                  <a:pt x="17859" y="11534"/>
                </a:cubicBezTo>
                <a:cubicBezTo>
                  <a:pt x="17808" y="11690"/>
                  <a:pt x="17705" y="11651"/>
                  <a:pt x="17611" y="11609"/>
                </a:cubicBezTo>
                <a:cubicBezTo>
                  <a:pt x="17685" y="11513"/>
                  <a:pt x="17769" y="11503"/>
                  <a:pt x="17859" y="11633"/>
                </a:cubicBezTo>
                <a:cubicBezTo>
                  <a:pt x="17859" y="11668"/>
                  <a:pt x="17868" y="11672"/>
                  <a:pt x="17909" y="11633"/>
                </a:cubicBezTo>
              </a:path>
              <a:path w="3002" h="2332">
                <a:moveTo>
                  <a:pt x="18331" y="11137"/>
                </a:moveTo>
                <a:cubicBezTo>
                  <a:pt x="18222" y="11137"/>
                  <a:pt x="18195" y="11132"/>
                  <a:pt x="18132" y="11162"/>
                </a:cubicBezTo>
                <a:cubicBezTo>
                  <a:pt x="18164" y="11301"/>
                  <a:pt x="18395" y="11440"/>
                  <a:pt x="18355" y="11584"/>
                </a:cubicBezTo>
                <a:cubicBezTo>
                  <a:pt x="18267" y="11614"/>
                  <a:pt x="18227" y="11622"/>
                  <a:pt x="18157" y="11609"/>
                </a:cubicBezTo>
                <a:cubicBezTo>
                  <a:pt x="18197" y="11438"/>
                  <a:pt x="18294" y="11355"/>
                  <a:pt x="18405" y="11212"/>
                </a:cubicBezTo>
              </a:path>
              <a:path w="3002" h="2332">
                <a:moveTo>
                  <a:pt x="18628" y="11137"/>
                </a:moveTo>
                <a:cubicBezTo>
                  <a:pt x="18628" y="11228"/>
                  <a:pt x="18613" y="11418"/>
                  <a:pt x="18777" y="11385"/>
                </a:cubicBezTo>
                <a:cubicBezTo>
                  <a:pt x="18827" y="11360"/>
                  <a:pt x="18876" y="11336"/>
                  <a:pt x="18926" y="11311"/>
                </a:cubicBezTo>
              </a:path>
              <a:path w="3002" h="2332">
                <a:moveTo>
                  <a:pt x="18951" y="10939"/>
                </a:moveTo>
                <a:cubicBezTo>
                  <a:pt x="18932" y="11129"/>
                  <a:pt x="18935" y="11321"/>
                  <a:pt x="18901" y="11509"/>
                </a:cubicBezTo>
                <a:cubicBezTo>
                  <a:pt x="18893" y="11534"/>
                  <a:pt x="18884" y="11559"/>
                  <a:pt x="18876" y="11584"/>
                </a:cubicBezTo>
              </a:path>
              <a:path w="3002" h="2332">
                <a:moveTo>
                  <a:pt x="16297" y="12254"/>
                </a:moveTo>
                <a:cubicBezTo>
                  <a:pt x="16391" y="12254"/>
                  <a:pt x="16474" y="12220"/>
                  <a:pt x="16570" y="12229"/>
                </a:cubicBezTo>
                <a:cubicBezTo>
                  <a:pt x="16611" y="12237"/>
                  <a:pt x="16653" y="12246"/>
                  <a:pt x="16694" y="12254"/>
                </a:cubicBezTo>
              </a:path>
              <a:path w="3002" h="2332">
                <a:moveTo>
                  <a:pt x="17090" y="12204"/>
                </a:moveTo>
                <a:cubicBezTo>
                  <a:pt x="17135" y="12189"/>
                  <a:pt x="17209" y="12129"/>
                  <a:pt x="17289" y="12154"/>
                </a:cubicBezTo>
                <a:cubicBezTo>
                  <a:pt x="17401" y="12188"/>
                  <a:pt x="17210" y="12294"/>
                  <a:pt x="17190" y="12303"/>
                </a:cubicBezTo>
                <a:cubicBezTo>
                  <a:pt x="17209" y="12362"/>
                  <a:pt x="17242" y="12277"/>
                  <a:pt x="17314" y="12303"/>
                </a:cubicBezTo>
                <a:cubicBezTo>
                  <a:pt x="17339" y="12320"/>
                  <a:pt x="17363" y="12336"/>
                  <a:pt x="17388" y="12353"/>
                </a:cubicBezTo>
                <a:cubicBezTo>
                  <a:pt x="17344" y="12483"/>
                  <a:pt x="17229" y="12526"/>
                  <a:pt x="17090" y="12526"/>
                </a:cubicBezTo>
                <a:cubicBezTo>
                  <a:pt x="17022" y="12526"/>
                  <a:pt x="17050" y="12474"/>
                  <a:pt x="17115" y="12452"/>
                </a:cubicBezTo>
              </a:path>
              <a:path w="3002" h="2332">
                <a:moveTo>
                  <a:pt x="17983" y="12030"/>
                </a:moveTo>
                <a:cubicBezTo>
                  <a:pt x="17864" y="12030"/>
                  <a:pt x="17882" y="12005"/>
                  <a:pt x="17835" y="12105"/>
                </a:cubicBezTo>
                <a:cubicBezTo>
                  <a:pt x="17827" y="12121"/>
                  <a:pt x="17818" y="12138"/>
                  <a:pt x="17810" y="12154"/>
                </a:cubicBezTo>
                <a:cubicBezTo>
                  <a:pt x="17885" y="12177"/>
                  <a:pt x="18052" y="12160"/>
                  <a:pt x="18107" y="12229"/>
                </a:cubicBezTo>
                <a:cubicBezTo>
                  <a:pt x="18178" y="12318"/>
                  <a:pt x="18023" y="12434"/>
                  <a:pt x="17959" y="12378"/>
                </a:cubicBezTo>
                <a:cubicBezTo>
                  <a:pt x="17951" y="12353"/>
                  <a:pt x="17942" y="12328"/>
                  <a:pt x="17934" y="12303"/>
                </a:cubicBezTo>
              </a:path>
              <a:path w="3002" h="2332">
                <a:moveTo>
                  <a:pt x="18355" y="12030"/>
                </a:moveTo>
                <a:cubicBezTo>
                  <a:pt x="18414" y="11972"/>
                  <a:pt x="18508" y="11981"/>
                  <a:pt x="18604" y="11981"/>
                </a:cubicBezTo>
                <a:cubicBezTo>
                  <a:pt x="18540" y="12032"/>
                  <a:pt x="18479" y="12068"/>
                  <a:pt x="18405" y="12105"/>
                </a:cubicBezTo>
                <a:cubicBezTo>
                  <a:pt x="18498" y="12105"/>
                  <a:pt x="18560" y="12106"/>
                  <a:pt x="18604" y="12204"/>
                </a:cubicBezTo>
                <a:cubicBezTo>
                  <a:pt x="18663" y="12334"/>
                  <a:pt x="18387" y="12266"/>
                  <a:pt x="18355" y="12254"/>
                </a:cubicBezTo>
              </a:path>
              <a:path w="3002" h="2332">
                <a:moveTo>
                  <a:pt x="18976" y="11931"/>
                </a:moveTo>
                <a:cubicBezTo>
                  <a:pt x="18942" y="12018"/>
                  <a:pt x="18818" y="12217"/>
                  <a:pt x="19000" y="12229"/>
                </a:cubicBezTo>
                <a:cubicBezTo>
                  <a:pt x="19164" y="12240"/>
                  <a:pt x="19170" y="12001"/>
                  <a:pt x="19025" y="11981"/>
                </a:cubicBezTo>
                <a:cubicBezTo>
                  <a:pt x="19017" y="11989"/>
                  <a:pt x="19008" y="11997"/>
                  <a:pt x="19000" y="12005"/>
                </a:cubicBezTo>
              </a:path>
              <a:path w="3002" h="2332">
                <a:moveTo>
                  <a:pt x="17016" y="12675"/>
                </a:moveTo>
                <a:cubicBezTo>
                  <a:pt x="17457" y="12553"/>
                  <a:pt x="17921" y="12527"/>
                  <a:pt x="18380" y="12477"/>
                </a:cubicBezTo>
                <a:cubicBezTo>
                  <a:pt x="18641" y="12449"/>
                  <a:pt x="19019" y="12414"/>
                  <a:pt x="19248" y="12353"/>
                </a:cubicBezTo>
              </a:path>
              <a:path w="3002" h="2332">
                <a:moveTo>
                  <a:pt x="18976" y="12601"/>
                </a:moveTo>
                <a:cubicBezTo>
                  <a:pt x="18976" y="12643"/>
                  <a:pt x="18928" y="12776"/>
                  <a:pt x="18951" y="12799"/>
                </a:cubicBezTo>
                <a:cubicBezTo>
                  <a:pt x="19072" y="12920"/>
                  <a:pt x="19192" y="12809"/>
                  <a:pt x="19298" y="12750"/>
                </a:cubicBezTo>
              </a:path>
              <a:path w="3002" h="2332">
                <a:moveTo>
                  <a:pt x="18604" y="12750"/>
                </a:moveTo>
                <a:cubicBezTo>
                  <a:pt x="18583" y="12719"/>
                  <a:pt x="18459" y="12698"/>
                  <a:pt x="18405" y="12725"/>
                </a:cubicBezTo>
                <a:cubicBezTo>
                  <a:pt x="18368" y="12744"/>
                  <a:pt x="18380" y="12886"/>
                  <a:pt x="18380" y="12923"/>
                </a:cubicBezTo>
                <a:cubicBezTo>
                  <a:pt x="18445" y="12923"/>
                  <a:pt x="18631" y="12894"/>
                  <a:pt x="18678" y="12948"/>
                </a:cubicBezTo>
                <a:cubicBezTo>
                  <a:pt x="18701" y="13040"/>
                  <a:pt x="18712" y="13065"/>
                  <a:pt x="18678" y="13122"/>
                </a:cubicBezTo>
                <a:cubicBezTo>
                  <a:pt x="18527" y="13151"/>
                  <a:pt x="18503" y="13145"/>
                  <a:pt x="18380" y="13072"/>
                </a:cubicBezTo>
              </a:path>
              <a:path w="3002" h="2332">
                <a:moveTo>
                  <a:pt x="16793" y="11361"/>
                </a:moveTo>
                <a:cubicBezTo>
                  <a:pt x="16877" y="11499"/>
                  <a:pt x="17015" y="11617"/>
                  <a:pt x="17090" y="11757"/>
                </a:cubicBezTo>
                <a:cubicBezTo>
                  <a:pt x="17090" y="11782"/>
                  <a:pt x="17090" y="11790"/>
                  <a:pt x="17090" y="11757"/>
                </a:cubicBezTo>
              </a:path>
              <a:path w="3002" h="2332">
                <a:moveTo>
                  <a:pt x="16545" y="10815"/>
                </a:moveTo>
                <a:cubicBezTo>
                  <a:pt x="16644" y="10858"/>
                  <a:pt x="16776" y="10840"/>
                  <a:pt x="16892" y="10840"/>
                </a:cubicBezTo>
                <a:cubicBezTo>
                  <a:pt x="16909" y="10840"/>
                  <a:pt x="16925" y="10840"/>
                  <a:pt x="16942" y="10840"/>
                </a:cubicBezTo>
                <a:cubicBezTo>
                  <a:pt x="16922" y="10957"/>
                  <a:pt x="16848" y="11099"/>
                  <a:pt x="16842" y="11212"/>
                </a:cubicBezTo>
                <a:cubicBezTo>
                  <a:pt x="16870" y="11296"/>
                  <a:pt x="16888" y="11316"/>
                  <a:pt x="16966" y="11237"/>
                </a:cubicBezTo>
              </a:path>
              <a:path w="3002" h="2332">
                <a:moveTo>
                  <a:pt x="17438" y="11063"/>
                </a:moveTo>
                <a:cubicBezTo>
                  <a:pt x="17421" y="11163"/>
                  <a:pt x="17394" y="11257"/>
                  <a:pt x="17388" y="11361"/>
                </a:cubicBezTo>
                <a:cubicBezTo>
                  <a:pt x="17388" y="11369"/>
                  <a:pt x="17388" y="11377"/>
                  <a:pt x="17388" y="11385"/>
                </a:cubicBezTo>
              </a:path>
              <a:path w="3002" h="2332">
                <a:moveTo>
                  <a:pt x="17760" y="12824"/>
                </a:moveTo>
                <a:cubicBezTo>
                  <a:pt x="17752" y="12824"/>
                  <a:pt x="17743" y="12824"/>
                  <a:pt x="17735" y="12824"/>
                </a:cubicBezTo>
                <a:cubicBezTo>
                  <a:pt x="17812" y="12766"/>
                  <a:pt x="17936" y="12799"/>
                  <a:pt x="18033" y="12799"/>
                </a:cubicBezTo>
                <a:cubicBezTo>
                  <a:pt x="18041" y="12799"/>
                  <a:pt x="18050" y="12799"/>
                  <a:pt x="18058" y="12799"/>
                </a:cubicBezTo>
                <a:cubicBezTo>
                  <a:pt x="18058" y="12915"/>
                  <a:pt x="18058" y="13030"/>
                  <a:pt x="18058" y="1314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61040" y="461628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7165" y="12948"/>
                </a:moveTo>
                <a:cubicBezTo>
                  <a:pt x="17155" y="12990"/>
                  <a:pt x="17134" y="13026"/>
                  <a:pt x="17115" y="13072"/>
                </a:cubicBezTo>
                <a:cubicBezTo>
                  <a:pt x="17195" y="13083"/>
                  <a:pt x="17308" y="13128"/>
                  <a:pt x="17388" y="13097"/>
                </a:cubicBezTo>
                <a:cubicBezTo>
                  <a:pt x="17396" y="13089"/>
                  <a:pt x="17405" y="13080"/>
                  <a:pt x="17413" y="13072"/>
                </a:cubicBezTo>
              </a:path>
              <a:path w="299" h="547">
                <a:moveTo>
                  <a:pt x="17363" y="12824"/>
                </a:moveTo>
                <a:cubicBezTo>
                  <a:pt x="17391" y="12962"/>
                  <a:pt x="17373" y="13078"/>
                  <a:pt x="17363" y="13221"/>
                </a:cubicBezTo>
                <a:cubicBezTo>
                  <a:pt x="17360" y="13269"/>
                  <a:pt x="17363" y="13321"/>
                  <a:pt x="17363" y="1337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43760" y="2741760"/>
            <a:ext cx="357120" cy="18720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17264" y="7714"/>
                </a:moveTo>
                <a:cubicBezTo>
                  <a:pt x="17122" y="7795"/>
                  <a:pt x="17093" y="7885"/>
                  <a:pt x="17066" y="8037"/>
                </a:cubicBezTo>
                <a:cubicBezTo>
                  <a:pt x="17193" y="8090"/>
                  <a:pt x="17406" y="8081"/>
                  <a:pt x="17388" y="7863"/>
                </a:cubicBezTo>
                <a:cubicBezTo>
                  <a:pt x="17346" y="7781"/>
                  <a:pt x="17346" y="7756"/>
                  <a:pt x="17289" y="7739"/>
                </a:cubicBezTo>
              </a:path>
              <a:path w="993" h="522">
                <a:moveTo>
                  <a:pt x="17562" y="7665"/>
                </a:moveTo>
                <a:cubicBezTo>
                  <a:pt x="17638" y="7641"/>
                  <a:pt x="17706" y="7623"/>
                  <a:pt x="17785" y="7615"/>
                </a:cubicBezTo>
                <a:cubicBezTo>
                  <a:pt x="17823" y="7746"/>
                  <a:pt x="17721" y="7774"/>
                  <a:pt x="17661" y="7888"/>
                </a:cubicBezTo>
                <a:cubicBezTo>
                  <a:pt x="17652" y="7904"/>
                  <a:pt x="17642" y="7970"/>
                  <a:pt x="17636" y="7987"/>
                </a:cubicBezTo>
                <a:cubicBezTo>
                  <a:pt x="17614" y="8053"/>
                  <a:pt x="17561" y="8057"/>
                  <a:pt x="17537" y="8136"/>
                </a:cubicBezTo>
                <a:cubicBezTo>
                  <a:pt x="17545" y="8136"/>
                  <a:pt x="17554" y="8136"/>
                  <a:pt x="17562" y="8136"/>
                </a:cubicBezTo>
                <a:cubicBezTo>
                  <a:pt x="17603" y="8095"/>
                  <a:pt x="17647" y="8017"/>
                  <a:pt x="17686" y="8012"/>
                </a:cubicBezTo>
                <a:cubicBezTo>
                  <a:pt x="17775" y="8001"/>
                  <a:pt x="17851" y="8078"/>
                  <a:pt x="17959" y="8062"/>
                </a:cubicBezTo>
                <a:cubicBezTo>
                  <a:pt x="18048" y="8049"/>
                  <a:pt x="18041" y="8020"/>
                  <a:pt x="18033" y="796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4200" y="5643720"/>
            <a:ext cx="1116000" cy="401400"/>
          </a:xfrm>
          <a:custGeom>
            <a:avLst/>
            <a:gdLst/>
            <a:ahLst/>
            <a:rect l="l" t="t" r="r" b="b"/>
            <a:pathLst>
              <a:path w="3102" h="1117">
                <a:moveTo>
                  <a:pt x="13593" y="16024"/>
                </a:moveTo>
                <a:cubicBezTo>
                  <a:pt x="14034" y="15992"/>
                  <a:pt x="14491" y="15973"/>
                  <a:pt x="14932" y="15925"/>
                </a:cubicBezTo>
                <a:cubicBezTo>
                  <a:pt x="15463" y="15868"/>
                  <a:pt x="16010" y="15678"/>
                  <a:pt x="16545" y="15677"/>
                </a:cubicBezTo>
                <a:cubicBezTo>
                  <a:pt x="16545" y="15685"/>
                  <a:pt x="16545" y="15693"/>
                  <a:pt x="16545" y="15701"/>
                </a:cubicBezTo>
              </a:path>
              <a:path w="3102" h="1117">
                <a:moveTo>
                  <a:pt x="16644" y="16049"/>
                </a:moveTo>
                <a:cubicBezTo>
                  <a:pt x="16680" y="16037"/>
                  <a:pt x="16672" y="16026"/>
                  <a:pt x="16694" y="15974"/>
                </a:cubicBezTo>
                <a:cubicBezTo>
                  <a:pt x="16549" y="15916"/>
                  <a:pt x="16391" y="15912"/>
                  <a:pt x="16321" y="16098"/>
                </a:cubicBezTo>
                <a:cubicBezTo>
                  <a:pt x="16329" y="16123"/>
                  <a:pt x="16338" y="16148"/>
                  <a:pt x="16346" y="16173"/>
                </a:cubicBezTo>
                <a:cubicBezTo>
                  <a:pt x="16500" y="16182"/>
                  <a:pt x="16578" y="16165"/>
                  <a:pt x="16644" y="15999"/>
                </a:cubicBezTo>
                <a:cubicBezTo>
                  <a:pt x="16644" y="15991"/>
                  <a:pt x="16644" y="15982"/>
                  <a:pt x="16644" y="15974"/>
                </a:cubicBezTo>
                <a:cubicBezTo>
                  <a:pt x="16673" y="16091"/>
                  <a:pt x="16617" y="16239"/>
                  <a:pt x="16594" y="16371"/>
                </a:cubicBezTo>
                <a:cubicBezTo>
                  <a:pt x="16594" y="16396"/>
                  <a:pt x="16594" y="16404"/>
                  <a:pt x="16594" y="16371"/>
                </a:cubicBezTo>
              </a:path>
              <a:path w="3102" h="1117">
                <a:moveTo>
                  <a:pt x="16148" y="15974"/>
                </a:moveTo>
                <a:cubicBezTo>
                  <a:pt x="16072" y="16025"/>
                  <a:pt x="16018" y="15989"/>
                  <a:pt x="15949" y="16024"/>
                </a:cubicBezTo>
                <a:cubicBezTo>
                  <a:pt x="15904" y="16047"/>
                  <a:pt x="15865" y="16151"/>
                  <a:pt x="15850" y="16197"/>
                </a:cubicBezTo>
                <a:cubicBezTo>
                  <a:pt x="15850" y="16205"/>
                  <a:pt x="15850" y="16214"/>
                  <a:pt x="15850" y="16222"/>
                </a:cubicBezTo>
                <a:cubicBezTo>
                  <a:pt x="15947" y="16206"/>
                  <a:pt x="16005" y="16194"/>
                  <a:pt x="16098" y="16247"/>
                </a:cubicBezTo>
                <a:cubicBezTo>
                  <a:pt x="16222" y="16317"/>
                  <a:pt x="16188" y="16480"/>
                  <a:pt x="16049" y="16520"/>
                </a:cubicBezTo>
                <a:cubicBezTo>
                  <a:pt x="15945" y="16550"/>
                  <a:pt x="15859" y="16491"/>
                  <a:pt x="15776" y="16446"/>
                </a:cubicBezTo>
              </a:path>
              <a:path w="3102" h="1117">
                <a:moveTo>
                  <a:pt x="15379" y="16148"/>
                </a:moveTo>
                <a:cubicBezTo>
                  <a:pt x="15331" y="16148"/>
                  <a:pt x="15318" y="16150"/>
                  <a:pt x="15280" y="16173"/>
                </a:cubicBezTo>
                <a:cubicBezTo>
                  <a:pt x="15263" y="16346"/>
                  <a:pt x="15400" y="16313"/>
                  <a:pt x="15503" y="16446"/>
                </a:cubicBezTo>
                <a:cubicBezTo>
                  <a:pt x="15511" y="16471"/>
                  <a:pt x="15520" y="16495"/>
                  <a:pt x="15528" y="16520"/>
                </a:cubicBezTo>
                <a:cubicBezTo>
                  <a:pt x="15473" y="16585"/>
                  <a:pt x="15387" y="16650"/>
                  <a:pt x="15354" y="16545"/>
                </a:cubicBezTo>
                <a:cubicBezTo>
                  <a:pt x="15313" y="16412"/>
                  <a:pt x="15386" y="16287"/>
                  <a:pt x="15453" y="16173"/>
                </a:cubicBezTo>
                <a:cubicBezTo>
                  <a:pt x="15486" y="16118"/>
                  <a:pt x="15484" y="16145"/>
                  <a:pt x="15453" y="16073"/>
                </a:cubicBezTo>
              </a:path>
              <a:path w="3102" h="1117">
                <a:moveTo>
                  <a:pt x="15106" y="16619"/>
                </a:moveTo>
                <a:cubicBezTo>
                  <a:pt x="15106" y="16633"/>
                  <a:pt x="15106" y="16767"/>
                  <a:pt x="15106" y="16694"/>
                </a:cubicBezTo>
              </a:path>
              <a:path w="3102" h="1117">
                <a:moveTo>
                  <a:pt x="14461" y="16346"/>
                </a:moveTo>
                <a:cubicBezTo>
                  <a:pt x="14563" y="16346"/>
                  <a:pt x="14658" y="16326"/>
                  <a:pt x="14759" y="16321"/>
                </a:cubicBezTo>
                <a:cubicBezTo>
                  <a:pt x="14767" y="16321"/>
                  <a:pt x="14776" y="16321"/>
                  <a:pt x="14784" y="16321"/>
                </a:cubicBezTo>
                <a:cubicBezTo>
                  <a:pt x="14762" y="16452"/>
                  <a:pt x="14708" y="16588"/>
                  <a:pt x="14684" y="16718"/>
                </a:cubicBezTo>
                <a:cubicBezTo>
                  <a:pt x="14671" y="16787"/>
                  <a:pt x="14695" y="16751"/>
                  <a:pt x="14709" y="1679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97320" y="5483160"/>
            <a:ext cx="115920" cy="2142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4585" y="15304"/>
                </a:moveTo>
                <a:cubicBezTo>
                  <a:pt x="14520" y="15369"/>
                  <a:pt x="14666" y="15231"/>
                  <a:pt x="14684" y="15230"/>
                </a:cubicBezTo>
                <a:cubicBezTo>
                  <a:pt x="14709" y="15238"/>
                  <a:pt x="14734" y="15247"/>
                  <a:pt x="14759" y="15255"/>
                </a:cubicBezTo>
                <a:cubicBezTo>
                  <a:pt x="14748" y="15465"/>
                  <a:pt x="14718" y="15685"/>
                  <a:pt x="14486" y="15776"/>
                </a:cubicBezTo>
                <a:cubicBezTo>
                  <a:pt x="14469" y="15768"/>
                  <a:pt x="14453" y="15759"/>
                  <a:pt x="14436" y="15751"/>
                </a:cubicBezTo>
                <a:cubicBezTo>
                  <a:pt x="14436" y="15619"/>
                  <a:pt x="14504" y="15602"/>
                  <a:pt x="14635" y="15652"/>
                </a:cubicBezTo>
                <a:cubicBezTo>
                  <a:pt x="14725" y="15686"/>
                  <a:pt x="14759" y="15738"/>
                  <a:pt x="14759" y="1582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37160" y="5411880"/>
            <a:ext cx="463680" cy="196920"/>
          </a:xfrm>
          <a:custGeom>
            <a:avLst/>
            <a:gdLst/>
            <a:ahLst/>
            <a:rect l="l" t="t" r="r" b="b"/>
            <a:pathLst>
              <a:path w="1291" h="546">
                <a:moveTo>
                  <a:pt x="15577" y="15131"/>
                </a:moveTo>
                <a:cubicBezTo>
                  <a:pt x="15477" y="15131"/>
                  <a:pt x="15443" y="15131"/>
                  <a:pt x="15379" y="15156"/>
                </a:cubicBezTo>
                <a:cubicBezTo>
                  <a:pt x="15407" y="15269"/>
                  <a:pt x="15581" y="15405"/>
                  <a:pt x="15577" y="15528"/>
                </a:cubicBezTo>
                <a:cubicBezTo>
                  <a:pt x="15561" y="15544"/>
                  <a:pt x="15544" y="15561"/>
                  <a:pt x="15528" y="15577"/>
                </a:cubicBezTo>
                <a:cubicBezTo>
                  <a:pt x="15422" y="15525"/>
                  <a:pt x="15515" y="15385"/>
                  <a:pt x="15577" y="15280"/>
                </a:cubicBezTo>
                <a:cubicBezTo>
                  <a:pt x="15585" y="15272"/>
                  <a:pt x="15594" y="15263"/>
                  <a:pt x="15602" y="15255"/>
                </a:cubicBezTo>
              </a:path>
              <a:path w="1291" h="546">
                <a:moveTo>
                  <a:pt x="16148" y="15106"/>
                </a:moveTo>
                <a:cubicBezTo>
                  <a:pt x="16125" y="15113"/>
                  <a:pt x="15983" y="15156"/>
                  <a:pt x="15974" y="15180"/>
                </a:cubicBezTo>
                <a:cubicBezTo>
                  <a:pt x="15974" y="15197"/>
                  <a:pt x="15974" y="15213"/>
                  <a:pt x="15974" y="15230"/>
                </a:cubicBezTo>
                <a:cubicBezTo>
                  <a:pt x="15993" y="15287"/>
                  <a:pt x="16088" y="15244"/>
                  <a:pt x="16148" y="15255"/>
                </a:cubicBezTo>
                <a:cubicBezTo>
                  <a:pt x="16279" y="15279"/>
                  <a:pt x="16287" y="15461"/>
                  <a:pt x="16173" y="15528"/>
                </a:cubicBezTo>
                <a:cubicBezTo>
                  <a:pt x="16065" y="15592"/>
                  <a:pt x="15889" y="15599"/>
                  <a:pt x="15925" y="15453"/>
                </a:cubicBezTo>
              </a:path>
              <a:path w="1291" h="546">
                <a:moveTo>
                  <a:pt x="16644" y="15156"/>
                </a:moveTo>
                <a:cubicBezTo>
                  <a:pt x="16609" y="15016"/>
                  <a:pt x="16511" y="15023"/>
                  <a:pt x="16421" y="15156"/>
                </a:cubicBezTo>
                <a:cubicBezTo>
                  <a:pt x="16404" y="15197"/>
                  <a:pt x="16388" y="15239"/>
                  <a:pt x="16371" y="15280"/>
                </a:cubicBezTo>
                <a:cubicBezTo>
                  <a:pt x="16513" y="15364"/>
                  <a:pt x="16566" y="15323"/>
                  <a:pt x="16644" y="15180"/>
                </a:cubicBezTo>
                <a:cubicBezTo>
                  <a:pt x="16652" y="15164"/>
                  <a:pt x="16661" y="15147"/>
                  <a:pt x="16669" y="15131"/>
                </a:cubicBezTo>
                <a:cubicBezTo>
                  <a:pt x="16669" y="15262"/>
                  <a:pt x="16671" y="15377"/>
                  <a:pt x="16644" y="15503"/>
                </a:cubicBezTo>
              </a:path>
              <a:path w="1291" h="546">
                <a:moveTo>
                  <a:pt x="16148" y="15131"/>
                </a:moveTo>
                <a:cubicBezTo>
                  <a:pt x="16115" y="15131"/>
                  <a:pt x="16082" y="15131"/>
                  <a:pt x="16049" y="15131"/>
                </a:cubicBezTo>
                <a:cubicBezTo>
                  <a:pt x="16059" y="15101"/>
                  <a:pt x="16147" y="15032"/>
                  <a:pt x="16197" y="15032"/>
                </a:cubicBezTo>
                <a:cubicBezTo>
                  <a:pt x="16205" y="15040"/>
                  <a:pt x="16214" y="15048"/>
                  <a:pt x="16222" y="1505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7960" y="5081760"/>
            <a:ext cx="16992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14585" y="14238"/>
                </a:moveTo>
                <a:cubicBezTo>
                  <a:pt x="14508" y="14254"/>
                  <a:pt x="14536" y="14264"/>
                  <a:pt x="14511" y="14312"/>
                </a:cubicBezTo>
                <a:cubicBezTo>
                  <a:pt x="14443" y="14424"/>
                  <a:pt x="14422" y="14452"/>
                  <a:pt x="14412" y="14536"/>
                </a:cubicBezTo>
                <a:cubicBezTo>
                  <a:pt x="14503" y="14536"/>
                  <a:pt x="14654" y="14510"/>
                  <a:pt x="14734" y="14560"/>
                </a:cubicBezTo>
                <a:cubicBezTo>
                  <a:pt x="14926" y="14679"/>
                  <a:pt x="14630" y="14841"/>
                  <a:pt x="14536" y="14858"/>
                </a:cubicBezTo>
                <a:cubicBezTo>
                  <a:pt x="14458" y="14858"/>
                  <a:pt x="14440" y="14874"/>
                  <a:pt x="14412" y="14833"/>
                </a:cubicBezTo>
              </a:path>
              <a:path w="472" h="745">
                <a:moveTo>
                  <a:pt x="14560" y="14312"/>
                </a:moveTo>
                <a:cubicBezTo>
                  <a:pt x="14560" y="14238"/>
                  <a:pt x="14598" y="14255"/>
                  <a:pt x="14684" y="14213"/>
                </a:cubicBezTo>
                <a:cubicBezTo>
                  <a:pt x="14756" y="14178"/>
                  <a:pt x="14849" y="14105"/>
                  <a:pt x="14883" y="1413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18040" y="554508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13990" y="15404"/>
                </a:moveTo>
                <a:cubicBezTo>
                  <a:pt x="13977" y="15537"/>
                  <a:pt x="13951" y="15669"/>
                  <a:pt x="13940" y="1580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64080" y="5081760"/>
            <a:ext cx="73080" cy="169560"/>
          </a:xfrm>
          <a:custGeom>
            <a:avLst/>
            <a:gdLst/>
            <a:ahLst/>
            <a:rect l="l" t="t" r="r" b="b"/>
            <a:pathLst>
              <a:path w="200" h="472">
                <a:moveTo>
                  <a:pt x="15280" y="14114"/>
                </a:moveTo>
                <a:cubicBezTo>
                  <a:pt x="15189" y="14295"/>
                  <a:pt x="15155" y="14400"/>
                  <a:pt x="15230" y="14585"/>
                </a:cubicBezTo>
                <a:cubicBezTo>
                  <a:pt x="15331" y="14534"/>
                  <a:pt x="15479" y="14421"/>
                  <a:pt x="15354" y="14288"/>
                </a:cubicBezTo>
                <a:cubicBezTo>
                  <a:pt x="15312" y="14288"/>
                  <a:pt x="15296" y="14296"/>
                  <a:pt x="15304" y="1426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4000" y="5099040"/>
            <a:ext cx="268200" cy="14292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15825" y="14213"/>
                </a:moveTo>
                <a:cubicBezTo>
                  <a:pt x="15722" y="14248"/>
                  <a:pt x="15580" y="14398"/>
                  <a:pt x="15652" y="14536"/>
                </a:cubicBezTo>
                <a:cubicBezTo>
                  <a:pt x="15677" y="14544"/>
                  <a:pt x="15701" y="14552"/>
                  <a:pt x="15726" y="14560"/>
                </a:cubicBezTo>
                <a:cubicBezTo>
                  <a:pt x="15933" y="14505"/>
                  <a:pt x="15925" y="14435"/>
                  <a:pt x="15825" y="14263"/>
                </a:cubicBezTo>
                <a:cubicBezTo>
                  <a:pt x="15817" y="14246"/>
                  <a:pt x="15809" y="14230"/>
                  <a:pt x="15801" y="14213"/>
                </a:cubicBezTo>
              </a:path>
              <a:path w="745" h="398">
                <a:moveTo>
                  <a:pt x="16222" y="14163"/>
                </a:moveTo>
                <a:cubicBezTo>
                  <a:pt x="16137" y="14292"/>
                  <a:pt x="16141" y="14336"/>
                  <a:pt x="16148" y="14486"/>
                </a:cubicBezTo>
                <a:cubicBezTo>
                  <a:pt x="16277" y="14496"/>
                  <a:pt x="16437" y="14446"/>
                  <a:pt x="16396" y="14263"/>
                </a:cubicBezTo>
                <a:cubicBezTo>
                  <a:pt x="16354" y="14199"/>
                  <a:pt x="16351" y="14174"/>
                  <a:pt x="16297" y="1418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8f8f8"/>
                </a:solidFill>
                <a:latin typeface="Verdana"/>
              </a:rPr>
              <a:t>accurately add and subtract decimals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Skill Practice:  Evaluate the following decimal operations if a = 2.5, b = 8.4 and c = 6.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1.) 3.76 + b 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2.) a – 1.395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3.) a + c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4.) 12.38 - b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Verdana"/>
              </a:rPr>
              <a:t>You should estimate to see if your answers are reasonable…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490760" y="2374920"/>
            <a:ext cx="2197080" cy="2054160"/>
          </a:xfrm>
          <a:custGeom>
            <a:avLst/>
            <a:gdLst/>
            <a:ahLst/>
            <a:rect l="l" t="t" r="r" b="b"/>
            <a:pathLst>
              <a:path w="6103" h="5706">
                <a:moveTo>
                  <a:pt x="9327" y="7962"/>
                </a:moveTo>
                <a:cubicBezTo>
                  <a:pt x="9323" y="7988"/>
                  <a:pt x="9231" y="8145"/>
                  <a:pt x="9153" y="8235"/>
                </a:cubicBezTo>
                <a:cubicBezTo>
                  <a:pt x="8912" y="8516"/>
                  <a:pt x="8700" y="8804"/>
                  <a:pt x="8483" y="9103"/>
                </a:cubicBezTo>
                <a:cubicBezTo>
                  <a:pt x="8405" y="9200"/>
                  <a:pt x="8388" y="9211"/>
                  <a:pt x="8359" y="9277"/>
                </a:cubicBezTo>
              </a:path>
              <a:path w="6103" h="5706">
                <a:moveTo>
                  <a:pt x="8533" y="6821"/>
                </a:moveTo>
                <a:cubicBezTo>
                  <a:pt x="8481" y="6804"/>
                  <a:pt x="8455" y="6784"/>
                  <a:pt x="8359" y="6796"/>
                </a:cubicBezTo>
                <a:cubicBezTo>
                  <a:pt x="8212" y="6815"/>
                  <a:pt x="8144" y="6879"/>
                  <a:pt x="8037" y="6970"/>
                </a:cubicBezTo>
                <a:cubicBezTo>
                  <a:pt x="8089" y="7177"/>
                  <a:pt x="8261" y="7173"/>
                  <a:pt x="8359" y="7342"/>
                </a:cubicBezTo>
                <a:cubicBezTo>
                  <a:pt x="8475" y="7542"/>
                  <a:pt x="8244" y="7628"/>
                  <a:pt x="8086" y="7590"/>
                </a:cubicBezTo>
                <a:cubicBezTo>
                  <a:pt x="8070" y="7574"/>
                  <a:pt x="8053" y="7557"/>
                  <a:pt x="8037" y="7541"/>
                </a:cubicBezTo>
                <a:cubicBezTo>
                  <a:pt x="8096" y="7353"/>
                  <a:pt x="8270" y="7279"/>
                  <a:pt x="8384" y="7094"/>
                </a:cubicBezTo>
                <a:cubicBezTo>
                  <a:pt x="8441" y="6978"/>
                  <a:pt x="8449" y="6962"/>
                  <a:pt x="8483" y="6896"/>
                </a:cubicBezTo>
              </a:path>
              <a:path w="6103" h="5706">
                <a:moveTo>
                  <a:pt x="8830" y="6846"/>
                </a:moveTo>
                <a:cubicBezTo>
                  <a:pt x="8813" y="6906"/>
                  <a:pt x="8806" y="6917"/>
                  <a:pt x="8806" y="6970"/>
                </a:cubicBezTo>
                <a:cubicBezTo>
                  <a:pt x="8915" y="6986"/>
                  <a:pt x="9016" y="6995"/>
                  <a:pt x="9128" y="6995"/>
                </a:cubicBezTo>
                <a:cubicBezTo>
                  <a:pt x="9136" y="6995"/>
                  <a:pt x="9145" y="6995"/>
                  <a:pt x="9153" y="6995"/>
                </a:cubicBezTo>
              </a:path>
              <a:path w="6103" h="5706">
                <a:moveTo>
                  <a:pt x="9153" y="6598"/>
                </a:moveTo>
                <a:cubicBezTo>
                  <a:pt x="9153" y="6739"/>
                  <a:pt x="9130" y="6877"/>
                  <a:pt x="9128" y="7020"/>
                </a:cubicBezTo>
                <a:cubicBezTo>
                  <a:pt x="9126" y="7136"/>
                  <a:pt x="9128" y="7251"/>
                  <a:pt x="9128" y="7367"/>
                </a:cubicBezTo>
              </a:path>
              <a:path w="6103" h="5706">
                <a:moveTo>
                  <a:pt x="5457" y="9451"/>
                </a:moveTo>
                <a:cubicBezTo>
                  <a:pt x="5457" y="9511"/>
                  <a:pt x="5437" y="9540"/>
                  <a:pt x="5407" y="9525"/>
                </a:cubicBezTo>
                <a:cubicBezTo>
                  <a:pt x="5467" y="9456"/>
                  <a:pt x="5573" y="9398"/>
                  <a:pt x="5655" y="9500"/>
                </a:cubicBezTo>
                <a:cubicBezTo>
                  <a:pt x="5743" y="9609"/>
                  <a:pt x="5644" y="9719"/>
                  <a:pt x="5556" y="9773"/>
                </a:cubicBezTo>
                <a:cubicBezTo>
                  <a:pt x="5483" y="9810"/>
                  <a:pt x="5450" y="9855"/>
                  <a:pt x="5457" y="9798"/>
                </a:cubicBezTo>
                <a:cubicBezTo>
                  <a:pt x="5544" y="9780"/>
                  <a:pt x="5580" y="9732"/>
                  <a:pt x="5631" y="9847"/>
                </a:cubicBezTo>
                <a:cubicBezTo>
                  <a:pt x="5721" y="10050"/>
                  <a:pt x="5513" y="10206"/>
                  <a:pt x="5333" y="10220"/>
                </a:cubicBezTo>
                <a:cubicBezTo>
                  <a:pt x="5273" y="10200"/>
                  <a:pt x="5258" y="10201"/>
                  <a:pt x="5234" y="10170"/>
                </a:cubicBezTo>
                <a:cubicBezTo>
                  <a:pt x="5310" y="10144"/>
                  <a:pt x="5375" y="10145"/>
                  <a:pt x="5457" y="10145"/>
                </a:cubicBezTo>
              </a:path>
              <a:path w="6103" h="5706">
                <a:moveTo>
                  <a:pt x="5978" y="9971"/>
                </a:moveTo>
                <a:cubicBezTo>
                  <a:pt x="5955" y="10009"/>
                  <a:pt x="5953" y="10023"/>
                  <a:pt x="5953" y="10071"/>
                </a:cubicBezTo>
                <a:cubicBezTo>
                  <a:pt x="5983" y="10060"/>
                  <a:pt x="6115" y="9978"/>
                  <a:pt x="6028" y="9971"/>
                </a:cubicBezTo>
                <a:cubicBezTo>
                  <a:pt x="6011" y="9971"/>
                  <a:pt x="5995" y="9971"/>
                  <a:pt x="5978" y="9971"/>
                </a:cubicBezTo>
              </a:path>
              <a:path w="6103" h="5706">
                <a:moveTo>
                  <a:pt x="6375" y="9500"/>
                </a:moveTo>
                <a:cubicBezTo>
                  <a:pt x="6360" y="9526"/>
                  <a:pt x="6325" y="9624"/>
                  <a:pt x="6325" y="9575"/>
                </a:cubicBezTo>
                <a:cubicBezTo>
                  <a:pt x="6325" y="9481"/>
                  <a:pt x="6470" y="9484"/>
                  <a:pt x="6548" y="9475"/>
                </a:cubicBezTo>
                <a:cubicBezTo>
                  <a:pt x="6606" y="9475"/>
                  <a:pt x="6615" y="9475"/>
                  <a:pt x="6648" y="9475"/>
                </a:cubicBezTo>
                <a:cubicBezTo>
                  <a:pt x="6639" y="9663"/>
                  <a:pt x="6588" y="9814"/>
                  <a:pt x="6548" y="9996"/>
                </a:cubicBezTo>
                <a:cubicBezTo>
                  <a:pt x="6540" y="10030"/>
                  <a:pt x="6578" y="10000"/>
                  <a:pt x="6598" y="9971"/>
                </a:cubicBezTo>
              </a:path>
              <a:path w="6103" h="5706">
                <a:moveTo>
                  <a:pt x="6945" y="9451"/>
                </a:moveTo>
                <a:cubicBezTo>
                  <a:pt x="6945" y="9578"/>
                  <a:pt x="6926" y="9697"/>
                  <a:pt x="6921" y="9823"/>
                </a:cubicBezTo>
                <a:cubicBezTo>
                  <a:pt x="6919" y="9883"/>
                  <a:pt x="6924" y="9963"/>
                  <a:pt x="6970" y="9996"/>
                </a:cubicBezTo>
                <a:cubicBezTo>
                  <a:pt x="7046" y="10050"/>
                  <a:pt x="7127" y="10016"/>
                  <a:pt x="7193" y="9971"/>
                </a:cubicBezTo>
                <a:cubicBezTo>
                  <a:pt x="7262" y="9924"/>
                  <a:pt x="7283" y="9874"/>
                  <a:pt x="7293" y="9798"/>
                </a:cubicBezTo>
                <a:cubicBezTo>
                  <a:pt x="7239" y="9766"/>
                  <a:pt x="7219" y="9741"/>
                  <a:pt x="7169" y="9773"/>
                </a:cubicBezTo>
                <a:cubicBezTo>
                  <a:pt x="7084" y="9828"/>
                  <a:pt x="7094" y="9881"/>
                  <a:pt x="7094" y="9971"/>
                </a:cubicBezTo>
                <a:cubicBezTo>
                  <a:pt x="7094" y="10012"/>
                  <a:pt x="7107" y="9984"/>
                  <a:pt x="7119" y="10021"/>
                </a:cubicBezTo>
              </a:path>
              <a:path w="6103" h="5706">
                <a:moveTo>
                  <a:pt x="5978" y="10740"/>
                </a:moveTo>
                <a:cubicBezTo>
                  <a:pt x="5903" y="10806"/>
                  <a:pt x="5894" y="10819"/>
                  <a:pt x="5904" y="10914"/>
                </a:cubicBezTo>
                <a:cubicBezTo>
                  <a:pt x="5928" y="10909"/>
                  <a:pt x="6110" y="10831"/>
                  <a:pt x="6028" y="10790"/>
                </a:cubicBezTo>
                <a:cubicBezTo>
                  <a:pt x="5986" y="10790"/>
                  <a:pt x="5970" y="10798"/>
                  <a:pt x="5978" y="10765"/>
                </a:cubicBezTo>
              </a:path>
              <a:path w="6103" h="5706">
                <a:moveTo>
                  <a:pt x="5457" y="10443"/>
                </a:moveTo>
                <a:cubicBezTo>
                  <a:pt x="5380" y="10396"/>
                  <a:pt x="5202" y="10455"/>
                  <a:pt x="5135" y="10517"/>
                </a:cubicBezTo>
                <a:cubicBezTo>
                  <a:pt x="5118" y="10550"/>
                  <a:pt x="5102" y="10583"/>
                  <a:pt x="5085" y="10616"/>
                </a:cubicBezTo>
                <a:cubicBezTo>
                  <a:pt x="5263" y="10770"/>
                  <a:pt x="5429" y="10837"/>
                  <a:pt x="5482" y="11063"/>
                </a:cubicBezTo>
                <a:cubicBezTo>
                  <a:pt x="5345" y="11103"/>
                  <a:pt x="5166" y="11133"/>
                  <a:pt x="5259" y="10914"/>
                </a:cubicBezTo>
                <a:cubicBezTo>
                  <a:pt x="5313" y="10787"/>
                  <a:pt x="5414" y="10669"/>
                  <a:pt x="5457" y="10542"/>
                </a:cubicBezTo>
              </a:path>
              <a:path w="6103" h="5706">
                <a:moveTo>
                  <a:pt x="6300" y="10418"/>
                </a:moveTo>
                <a:cubicBezTo>
                  <a:pt x="6358" y="10457"/>
                  <a:pt x="6325" y="10628"/>
                  <a:pt x="6325" y="10716"/>
                </a:cubicBezTo>
                <a:cubicBezTo>
                  <a:pt x="6325" y="10724"/>
                  <a:pt x="6325" y="10732"/>
                  <a:pt x="6325" y="10740"/>
                </a:cubicBezTo>
                <a:cubicBezTo>
                  <a:pt x="6438" y="10734"/>
                  <a:pt x="6540" y="10704"/>
                  <a:pt x="6648" y="10691"/>
                </a:cubicBezTo>
              </a:path>
              <a:path w="6103" h="5706">
                <a:moveTo>
                  <a:pt x="6672" y="10368"/>
                </a:moveTo>
                <a:cubicBezTo>
                  <a:pt x="6639" y="10561"/>
                  <a:pt x="6623" y="10743"/>
                  <a:pt x="6623" y="10939"/>
                </a:cubicBezTo>
                <a:cubicBezTo>
                  <a:pt x="6623" y="10997"/>
                  <a:pt x="6607" y="11021"/>
                  <a:pt x="6648" y="11013"/>
                </a:cubicBezTo>
              </a:path>
              <a:path w="6103" h="5706">
                <a:moveTo>
                  <a:pt x="4167" y="11261"/>
                </a:moveTo>
                <a:cubicBezTo>
                  <a:pt x="4438" y="11237"/>
                  <a:pt x="4688" y="11265"/>
                  <a:pt x="4961" y="11261"/>
                </a:cubicBezTo>
                <a:cubicBezTo>
                  <a:pt x="5817" y="11250"/>
                  <a:pt x="6686" y="11205"/>
                  <a:pt x="7541" y="11162"/>
                </a:cubicBezTo>
                <a:cubicBezTo>
                  <a:pt x="7769" y="11151"/>
                  <a:pt x="7715" y="11148"/>
                  <a:pt x="7838" y="11162"/>
                </a:cubicBezTo>
              </a:path>
              <a:path w="6103" h="5706">
                <a:moveTo>
                  <a:pt x="4415" y="10492"/>
                </a:moveTo>
                <a:cubicBezTo>
                  <a:pt x="4415" y="10668"/>
                  <a:pt x="4398" y="10838"/>
                  <a:pt x="4390" y="11013"/>
                </a:cubicBezTo>
              </a:path>
              <a:path w="6103" h="5706">
                <a:moveTo>
                  <a:pt x="4142" y="10765"/>
                </a:moveTo>
                <a:cubicBezTo>
                  <a:pt x="4317" y="10758"/>
                  <a:pt x="4488" y="10740"/>
                  <a:pt x="4663" y="10740"/>
                </a:cubicBezTo>
              </a:path>
              <a:path w="6103" h="5706">
                <a:moveTo>
                  <a:pt x="7193" y="10468"/>
                </a:moveTo>
                <a:cubicBezTo>
                  <a:pt x="7187" y="10450"/>
                  <a:pt x="7128" y="10414"/>
                  <a:pt x="7094" y="10418"/>
                </a:cubicBezTo>
                <a:cubicBezTo>
                  <a:pt x="7028" y="10426"/>
                  <a:pt x="6966" y="10544"/>
                  <a:pt x="6945" y="10592"/>
                </a:cubicBezTo>
                <a:cubicBezTo>
                  <a:pt x="6913" y="10663"/>
                  <a:pt x="6929" y="10695"/>
                  <a:pt x="6945" y="10765"/>
                </a:cubicBezTo>
                <a:cubicBezTo>
                  <a:pt x="6957" y="10820"/>
                  <a:pt x="6931" y="10845"/>
                  <a:pt x="6970" y="10889"/>
                </a:cubicBezTo>
                <a:cubicBezTo>
                  <a:pt x="6998" y="10921"/>
                  <a:pt x="7039" y="10918"/>
                  <a:pt x="7069" y="10939"/>
                </a:cubicBezTo>
                <a:cubicBezTo>
                  <a:pt x="7101" y="10961"/>
                  <a:pt x="7174" y="10986"/>
                  <a:pt x="7218" y="10964"/>
                </a:cubicBezTo>
                <a:cubicBezTo>
                  <a:pt x="7238" y="10954"/>
                  <a:pt x="7310" y="10906"/>
                  <a:pt x="7317" y="10889"/>
                </a:cubicBezTo>
                <a:cubicBezTo>
                  <a:pt x="7335" y="10846"/>
                  <a:pt x="7342" y="10791"/>
                  <a:pt x="7342" y="10740"/>
                </a:cubicBezTo>
                <a:cubicBezTo>
                  <a:pt x="7342" y="10681"/>
                  <a:pt x="7333" y="10662"/>
                  <a:pt x="7317" y="10616"/>
                </a:cubicBezTo>
                <a:cubicBezTo>
                  <a:pt x="7306" y="10583"/>
                  <a:pt x="7316" y="10559"/>
                  <a:pt x="7293" y="10542"/>
                </a:cubicBezTo>
                <a:cubicBezTo>
                  <a:pt x="7267" y="10523"/>
                  <a:pt x="7228" y="10473"/>
                  <a:pt x="7218" y="10468"/>
                </a:cubicBezTo>
                <a:cubicBezTo>
                  <a:pt x="7212" y="10465"/>
                  <a:pt x="7148" y="10448"/>
                  <a:pt x="7144" y="10443"/>
                </a:cubicBezTo>
                <a:cubicBezTo>
                  <a:pt x="7144" y="10435"/>
                  <a:pt x="7144" y="10426"/>
                  <a:pt x="7144" y="10418"/>
                </a:cubicBezTo>
              </a:path>
              <a:path w="6103" h="5706">
                <a:moveTo>
                  <a:pt x="6995" y="11435"/>
                </a:moveTo>
                <a:cubicBezTo>
                  <a:pt x="7025" y="11420"/>
                  <a:pt x="7039" y="11400"/>
                  <a:pt x="7069" y="11385"/>
                </a:cubicBezTo>
                <a:cubicBezTo>
                  <a:pt x="7094" y="11486"/>
                  <a:pt x="7063" y="11547"/>
                  <a:pt x="7020" y="11658"/>
                </a:cubicBezTo>
                <a:cubicBezTo>
                  <a:pt x="7009" y="11687"/>
                  <a:pt x="6904" y="11865"/>
                  <a:pt x="6970" y="11906"/>
                </a:cubicBezTo>
                <a:cubicBezTo>
                  <a:pt x="7052" y="11957"/>
                  <a:pt x="7211" y="11940"/>
                  <a:pt x="7293" y="11906"/>
                </a:cubicBezTo>
                <a:cubicBezTo>
                  <a:pt x="7349" y="11883"/>
                  <a:pt x="7430" y="11814"/>
                  <a:pt x="7441" y="11757"/>
                </a:cubicBezTo>
                <a:cubicBezTo>
                  <a:pt x="7441" y="11749"/>
                  <a:pt x="7441" y="11741"/>
                  <a:pt x="7441" y="11733"/>
                </a:cubicBezTo>
                <a:cubicBezTo>
                  <a:pt x="7389" y="11706"/>
                  <a:pt x="7286" y="11683"/>
                  <a:pt x="7243" y="11757"/>
                </a:cubicBezTo>
                <a:cubicBezTo>
                  <a:pt x="7200" y="11831"/>
                  <a:pt x="7202" y="11867"/>
                  <a:pt x="7218" y="11931"/>
                </a:cubicBezTo>
              </a:path>
              <a:path w="6103" h="5706">
                <a:moveTo>
                  <a:pt x="6424" y="11609"/>
                </a:moveTo>
                <a:cubicBezTo>
                  <a:pt x="6424" y="11584"/>
                  <a:pt x="6424" y="11576"/>
                  <a:pt x="6424" y="11559"/>
                </a:cubicBezTo>
                <a:cubicBezTo>
                  <a:pt x="6415" y="11669"/>
                  <a:pt x="6421" y="11798"/>
                  <a:pt x="6400" y="11906"/>
                </a:cubicBezTo>
                <a:cubicBezTo>
                  <a:pt x="6383" y="11996"/>
                  <a:pt x="6375" y="11956"/>
                  <a:pt x="6400" y="12005"/>
                </a:cubicBezTo>
                <a:cubicBezTo>
                  <a:pt x="6407" y="12020"/>
                  <a:pt x="6400" y="12063"/>
                  <a:pt x="6400" y="12080"/>
                </a:cubicBezTo>
              </a:path>
              <a:path w="6103" h="5706">
                <a:moveTo>
                  <a:pt x="5606" y="8930"/>
                </a:moveTo>
                <a:cubicBezTo>
                  <a:pt x="5568" y="8854"/>
                  <a:pt x="5581" y="9073"/>
                  <a:pt x="5581" y="9079"/>
                </a:cubicBezTo>
                <a:cubicBezTo>
                  <a:pt x="5581" y="9128"/>
                  <a:pt x="5581" y="9178"/>
                  <a:pt x="5581" y="9227"/>
                </a:cubicBezTo>
                <a:cubicBezTo>
                  <a:pt x="5581" y="9125"/>
                  <a:pt x="5600" y="9031"/>
                  <a:pt x="5606" y="8930"/>
                </a:cubicBezTo>
                <a:cubicBezTo>
                  <a:pt x="5606" y="8922"/>
                  <a:pt x="5606" y="8913"/>
                  <a:pt x="5606" y="8905"/>
                </a:cubicBezTo>
              </a:path>
              <a:path w="6103" h="5706">
                <a:moveTo>
                  <a:pt x="4787" y="11658"/>
                </a:moveTo>
                <a:cubicBezTo>
                  <a:pt x="4787" y="11533"/>
                  <a:pt x="4772" y="11856"/>
                  <a:pt x="4762" y="11981"/>
                </a:cubicBezTo>
                <a:cubicBezTo>
                  <a:pt x="4752" y="12098"/>
                  <a:pt x="4713" y="12395"/>
                  <a:pt x="4713" y="12278"/>
                </a:cubicBezTo>
              </a:path>
              <a:path w="6103" h="5706">
                <a:moveTo>
                  <a:pt x="5110" y="11708"/>
                </a:moveTo>
                <a:cubicBezTo>
                  <a:pt x="5123" y="11656"/>
                  <a:pt x="5168" y="11624"/>
                  <a:pt x="5209" y="11584"/>
                </a:cubicBezTo>
                <a:cubicBezTo>
                  <a:pt x="5230" y="11563"/>
                  <a:pt x="5332" y="11533"/>
                  <a:pt x="5358" y="11559"/>
                </a:cubicBezTo>
                <a:cubicBezTo>
                  <a:pt x="5431" y="11632"/>
                  <a:pt x="5445" y="11628"/>
                  <a:pt x="5407" y="11757"/>
                </a:cubicBezTo>
                <a:cubicBezTo>
                  <a:pt x="5382" y="11843"/>
                  <a:pt x="5330" y="11947"/>
                  <a:pt x="5259" y="12005"/>
                </a:cubicBezTo>
                <a:cubicBezTo>
                  <a:pt x="5210" y="12045"/>
                  <a:pt x="5118" y="12093"/>
                  <a:pt x="5085" y="12154"/>
                </a:cubicBezTo>
                <a:cubicBezTo>
                  <a:pt x="5065" y="12215"/>
                  <a:pt x="5067" y="12230"/>
                  <a:pt x="5035" y="12254"/>
                </a:cubicBezTo>
                <a:cubicBezTo>
                  <a:pt x="5035" y="12300"/>
                  <a:pt x="5056" y="12210"/>
                  <a:pt x="5085" y="12179"/>
                </a:cubicBezTo>
                <a:cubicBezTo>
                  <a:pt x="5124" y="12137"/>
                  <a:pt x="5137" y="12116"/>
                  <a:pt x="5184" y="12105"/>
                </a:cubicBezTo>
                <a:cubicBezTo>
                  <a:pt x="5227" y="12148"/>
                  <a:pt x="5312" y="12257"/>
                  <a:pt x="5383" y="12254"/>
                </a:cubicBezTo>
                <a:cubicBezTo>
                  <a:pt x="5481" y="12250"/>
                  <a:pt x="5448" y="12205"/>
                  <a:pt x="5482" y="12154"/>
                </a:cubicBezTo>
                <a:cubicBezTo>
                  <a:pt x="5490" y="12146"/>
                  <a:pt x="5499" y="12137"/>
                  <a:pt x="5507" y="12129"/>
                </a:cubicBezTo>
              </a:path>
              <a:path w="6103" h="5706">
                <a:moveTo>
                  <a:pt x="5953" y="11981"/>
                </a:moveTo>
                <a:cubicBezTo>
                  <a:pt x="5940" y="12018"/>
                  <a:pt x="5885" y="12028"/>
                  <a:pt x="5854" y="12080"/>
                </a:cubicBezTo>
                <a:cubicBezTo>
                  <a:pt x="5834" y="12120"/>
                  <a:pt x="5825" y="12126"/>
                  <a:pt x="5829" y="12154"/>
                </a:cubicBezTo>
                <a:cubicBezTo>
                  <a:pt x="5890" y="12139"/>
                  <a:pt x="5908" y="12090"/>
                  <a:pt x="5928" y="12030"/>
                </a:cubicBezTo>
                <a:cubicBezTo>
                  <a:pt x="5917" y="12036"/>
                  <a:pt x="5839" y="12093"/>
                  <a:pt x="5854" y="12105"/>
                </a:cubicBezTo>
                <a:cubicBezTo>
                  <a:pt x="5886" y="12129"/>
                  <a:pt x="5867" y="12068"/>
                  <a:pt x="5904" y="12055"/>
                </a:cubicBezTo>
                <a:cubicBezTo>
                  <a:pt x="5963" y="12035"/>
                  <a:pt x="5962" y="12025"/>
                  <a:pt x="5953" y="12055"/>
                </a:cubicBezTo>
                <a:cubicBezTo>
                  <a:pt x="5953" y="12063"/>
                  <a:pt x="5953" y="12072"/>
                  <a:pt x="5953" y="12080"/>
                </a:cubicBezTo>
              </a:path>
              <a:path w="6103" h="5706">
                <a:moveTo>
                  <a:pt x="8235" y="9798"/>
                </a:moveTo>
                <a:cubicBezTo>
                  <a:pt x="8235" y="9823"/>
                  <a:pt x="8235" y="9831"/>
                  <a:pt x="8210" y="9823"/>
                </a:cubicBezTo>
                <a:cubicBezTo>
                  <a:pt x="8210" y="9783"/>
                  <a:pt x="8212" y="9735"/>
                  <a:pt x="8235" y="9723"/>
                </a:cubicBezTo>
                <a:cubicBezTo>
                  <a:pt x="8272" y="9705"/>
                  <a:pt x="8339" y="9679"/>
                  <a:pt x="8384" y="9699"/>
                </a:cubicBezTo>
                <a:cubicBezTo>
                  <a:pt x="8421" y="9715"/>
                  <a:pt x="8477" y="9778"/>
                  <a:pt x="8508" y="9798"/>
                </a:cubicBezTo>
                <a:cubicBezTo>
                  <a:pt x="8565" y="9836"/>
                  <a:pt x="8595" y="9904"/>
                  <a:pt x="8682" y="9872"/>
                </a:cubicBezTo>
                <a:cubicBezTo>
                  <a:pt x="8704" y="9864"/>
                  <a:pt x="8731" y="9812"/>
                  <a:pt x="8731" y="9773"/>
                </a:cubicBezTo>
              </a:path>
              <a:path w="6103" h="5706">
                <a:moveTo>
                  <a:pt x="9426" y="9401"/>
                </a:moveTo>
                <a:cubicBezTo>
                  <a:pt x="9406" y="9499"/>
                  <a:pt x="9383" y="9595"/>
                  <a:pt x="9376" y="9699"/>
                </a:cubicBezTo>
                <a:cubicBezTo>
                  <a:pt x="9486" y="9726"/>
                  <a:pt x="9603" y="9674"/>
                  <a:pt x="9723" y="9649"/>
                </a:cubicBezTo>
                <a:cubicBezTo>
                  <a:pt x="9731" y="9649"/>
                  <a:pt x="9740" y="9649"/>
                  <a:pt x="9748" y="9649"/>
                </a:cubicBezTo>
              </a:path>
              <a:path w="6103" h="5706">
                <a:moveTo>
                  <a:pt x="9798" y="9302"/>
                </a:moveTo>
                <a:cubicBezTo>
                  <a:pt x="9753" y="9481"/>
                  <a:pt x="9716" y="9664"/>
                  <a:pt x="9674" y="9847"/>
                </a:cubicBezTo>
                <a:cubicBezTo>
                  <a:pt x="9658" y="9918"/>
                  <a:pt x="9649" y="9936"/>
                  <a:pt x="9649" y="9996"/>
                </a:cubicBezTo>
              </a:path>
              <a:path w="6103" h="5706">
                <a:moveTo>
                  <a:pt x="8186" y="10468"/>
                </a:moveTo>
                <a:cubicBezTo>
                  <a:pt x="8200" y="10482"/>
                  <a:pt x="8238" y="10415"/>
                  <a:pt x="8310" y="10393"/>
                </a:cubicBezTo>
                <a:cubicBezTo>
                  <a:pt x="8395" y="10367"/>
                  <a:pt x="8391" y="10432"/>
                  <a:pt x="8434" y="10492"/>
                </a:cubicBezTo>
                <a:cubicBezTo>
                  <a:pt x="8482" y="10558"/>
                  <a:pt x="8497" y="10595"/>
                  <a:pt x="8582" y="10542"/>
                </a:cubicBezTo>
                <a:cubicBezTo>
                  <a:pt x="8605" y="10519"/>
                  <a:pt x="8613" y="10515"/>
                  <a:pt x="8607" y="10492"/>
                </a:cubicBezTo>
              </a:path>
              <a:path w="6103" h="5706">
                <a:moveTo>
                  <a:pt x="9723" y="10344"/>
                </a:moveTo>
                <a:cubicBezTo>
                  <a:pt x="9619" y="10291"/>
                  <a:pt x="9480" y="10349"/>
                  <a:pt x="9401" y="10443"/>
                </a:cubicBezTo>
                <a:cubicBezTo>
                  <a:pt x="9393" y="10468"/>
                  <a:pt x="9384" y="10492"/>
                  <a:pt x="9376" y="10517"/>
                </a:cubicBezTo>
                <a:cubicBezTo>
                  <a:pt x="9440" y="10627"/>
                  <a:pt x="9574" y="10691"/>
                  <a:pt x="9624" y="10815"/>
                </a:cubicBezTo>
                <a:cubicBezTo>
                  <a:pt x="9624" y="10856"/>
                  <a:pt x="9624" y="10864"/>
                  <a:pt x="9624" y="10889"/>
                </a:cubicBezTo>
                <a:cubicBezTo>
                  <a:pt x="9540" y="10912"/>
                  <a:pt x="9424" y="10948"/>
                  <a:pt x="9475" y="10790"/>
                </a:cubicBezTo>
                <a:cubicBezTo>
                  <a:pt x="9513" y="10672"/>
                  <a:pt x="9660" y="10617"/>
                  <a:pt x="9723" y="10517"/>
                </a:cubicBezTo>
                <a:cubicBezTo>
                  <a:pt x="9741" y="10489"/>
                  <a:pt x="9748" y="10455"/>
                  <a:pt x="9748" y="10418"/>
                </a:cubicBezTo>
              </a:path>
              <a:path w="6103" h="5706">
                <a:moveTo>
                  <a:pt x="8930" y="11038"/>
                </a:moveTo>
                <a:cubicBezTo>
                  <a:pt x="9158" y="11076"/>
                  <a:pt x="9369" y="11042"/>
                  <a:pt x="9599" y="11013"/>
                </a:cubicBezTo>
                <a:cubicBezTo>
                  <a:pt x="9712" y="10999"/>
                  <a:pt x="9791" y="10988"/>
                  <a:pt x="9897" y="10988"/>
                </a:cubicBezTo>
              </a:path>
              <a:path w="6103" h="5706">
                <a:moveTo>
                  <a:pt x="9451" y="11187"/>
                </a:moveTo>
                <a:cubicBezTo>
                  <a:pt x="9472" y="11319"/>
                  <a:pt x="9475" y="11448"/>
                  <a:pt x="9475" y="11584"/>
                </a:cubicBezTo>
                <a:cubicBezTo>
                  <a:pt x="9475" y="11609"/>
                  <a:pt x="9475" y="11633"/>
                  <a:pt x="9475" y="11658"/>
                </a:cubicBezTo>
              </a:path>
              <a:path w="6103" h="5706">
                <a:moveTo>
                  <a:pt x="9773" y="11261"/>
                </a:moveTo>
                <a:cubicBezTo>
                  <a:pt x="9791" y="11192"/>
                  <a:pt x="9877" y="11170"/>
                  <a:pt x="9947" y="11187"/>
                </a:cubicBezTo>
                <a:cubicBezTo>
                  <a:pt x="10047" y="11211"/>
                  <a:pt x="9990" y="11483"/>
                  <a:pt x="9971" y="11534"/>
                </a:cubicBezTo>
                <a:cubicBezTo>
                  <a:pt x="9956" y="11575"/>
                  <a:pt x="9847" y="11736"/>
                  <a:pt x="9847" y="11683"/>
                </a:cubicBezTo>
                <a:cubicBezTo>
                  <a:pt x="9891" y="11621"/>
                  <a:pt x="9913" y="11588"/>
                  <a:pt x="9971" y="11609"/>
                </a:cubicBezTo>
                <a:cubicBezTo>
                  <a:pt x="10076" y="11647"/>
                  <a:pt x="10123" y="11684"/>
                  <a:pt x="10195" y="11584"/>
                </a:cubicBezTo>
                <a:cubicBezTo>
                  <a:pt x="10211" y="11559"/>
                  <a:pt x="10228" y="11534"/>
                  <a:pt x="10244" y="11509"/>
                </a:cubicBezTo>
              </a:path>
              <a:path w="6103" h="5706">
                <a:moveTo>
                  <a:pt x="7888" y="11782"/>
                </a:moveTo>
                <a:cubicBezTo>
                  <a:pt x="7978" y="11782"/>
                  <a:pt x="7994" y="11925"/>
                  <a:pt x="8062" y="12005"/>
                </a:cubicBezTo>
                <a:cubicBezTo>
                  <a:pt x="8070" y="12005"/>
                  <a:pt x="8078" y="12005"/>
                  <a:pt x="8086" y="12005"/>
                </a:cubicBezTo>
                <a:cubicBezTo>
                  <a:pt x="8187" y="11818"/>
                  <a:pt x="8306" y="11655"/>
                  <a:pt x="8434" y="1148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52880" y="2616120"/>
            <a:ext cx="4357440" cy="1197000"/>
          </a:xfrm>
          <a:custGeom>
            <a:avLst/>
            <a:gdLst/>
            <a:ahLst/>
            <a:rect l="l" t="t" r="r" b="b"/>
            <a:pathLst>
              <a:path w="12106" h="3325">
                <a:moveTo>
                  <a:pt x="8781" y="7268"/>
                </a:moveTo>
                <a:cubicBezTo>
                  <a:pt x="8759" y="7290"/>
                  <a:pt x="8750" y="7295"/>
                  <a:pt x="8756" y="7317"/>
                </a:cubicBezTo>
              </a:path>
              <a:path w="12106" h="3325">
                <a:moveTo>
                  <a:pt x="16098" y="8037"/>
                </a:moveTo>
                <a:cubicBezTo>
                  <a:pt x="16098" y="8029"/>
                  <a:pt x="16098" y="8020"/>
                  <a:pt x="16098" y="8012"/>
                </a:cubicBezTo>
              </a:path>
              <a:path w="12106" h="3325">
                <a:moveTo>
                  <a:pt x="19199" y="10418"/>
                </a:moveTo>
                <a:cubicBezTo>
                  <a:pt x="19365" y="10390"/>
                  <a:pt x="19432" y="10378"/>
                  <a:pt x="19546" y="10344"/>
                </a:cubicBezTo>
              </a:path>
              <a:path w="12106" h="3325">
                <a:moveTo>
                  <a:pt x="19546" y="10344"/>
                </a:moveTo>
                <a:lnTo>
                  <a:pt x="19546" y="10344"/>
                </a:lnTo>
              </a:path>
              <a:path w="12106" h="3325">
                <a:moveTo>
                  <a:pt x="20861" y="9798"/>
                </a:moveTo>
                <a:cubicBezTo>
                  <a:pt x="20826" y="10067"/>
                  <a:pt x="20800" y="10328"/>
                  <a:pt x="20737" y="1059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97880" y="1509840"/>
            <a:ext cx="1419120" cy="2035080"/>
          </a:xfrm>
          <a:custGeom>
            <a:avLst/>
            <a:gdLst/>
            <a:ahLst/>
            <a:rect l="l" t="t" r="r" b="b"/>
            <a:pathLst>
              <a:path w="3945" h="5656">
                <a:moveTo>
                  <a:pt x="22423" y="6896"/>
                </a:moveTo>
                <a:cubicBezTo>
                  <a:pt x="22423" y="7097"/>
                  <a:pt x="22396" y="7321"/>
                  <a:pt x="22349" y="7516"/>
                </a:cubicBezTo>
                <a:cubicBezTo>
                  <a:pt x="22310" y="7614"/>
                  <a:pt x="22293" y="7627"/>
                  <a:pt x="22299" y="7689"/>
                </a:cubicBezTo>
              </a:path>
              <a:path w="3945" h="5656">
                <a:moveTo>
                  <a:pt x="22721" y="7392"/>
                </a:moveTo>
                <a:cubicBezTo>
                  <a:pt x="22721" y="7417"/>
                  <a:pt x="22721" y="7425"/>
                  <a:pt x="22721" y="7392"/>
                </a:cubicBezTo>
              </a:path>
              <a:path w="3945" h="5656">
                <a:moveTo>
                  <a:pt x="23168" y="6921"/>
                </a:moveTo>
                <a:cubicBezTo>
                  <a:pt x="23234" y="6821"/>
                  <a:pt x="23305" y="6793"/>
                  <a:pt x="23416" y="6821"/>
                </a:cubicBezTo>
                <a:cubicBezTo>
                  <a:pt x="23406" y="6970"/>
                  <a:pt x="23397" y="6969"/>
                  <a:pt x="23267" y="7069"/>
                </a:cubicBezTo>
                <a:cubicBezTo>
                  <a:pt x="23361" y="7069"/>
                  <a:pt x="23485" y="7034"/>
                  <a:pt x="23540" y="7144"/>
                </a:cubicBezTo>
                <a:cubicBezTo>
                  <a:pt x="23671" y="7405"/>
                  <a:pt x="23239" y="7411"/>
                  <a:pt x="23118" y="7417"/>
                </a:cubicBezTo>
                <a:cubicBezTo>
                  <a:pt x="23066" y="7417"/>
                  <a:pt x="23050" y="7415"/>
                  <a:pt x="23093" y="7367"/>
                </a:cubicBezTo>
              </a:path>
              <a:path w="3945" h="5656">
                <a:moveTo>
                  <a:pt x="24085" y="6846"/>
                </a:moveTo>
                <a:cubicBezTo>
                  <a:pt x="24085" y="6792"/>
                  <a:pt x="24079" y="6802"/>
                  <a:pt x="24036" y="6772"/>
                </a:cubicBezTo>
                <a:cubicBezTo>
                  <a:pt x="23902" y="6681"/>
                  <a:pt x="23784" y="6799"/>
                  <a:pt x="23738" y="6945"/>
                </a:cubicBezTo>
                <a:cubicBezTo>
                  <a:pt x="23738" y="7035"/>
                  <a:pt x="23731" y="7061"/>
                  <a:pt x="23788" y="7094"/>
                </a:cubicBezTo>
                <a:cubicBezTo>
                  <a:pt x="23931" y="7044"/>
                  <a:pt x="23996" y="7002"/>
                  <a:pt x="24110" y="6896"/>
                </a:cubicBezTo>
                <a:cubicBezTo>
                  <a:pt x="24093" y="7065"/>
                  <a:pt x="24079" y="7251"/>
                  <a:pt x="24036" y="7417"/>
                </a:cubicBezTo>
                <a:cubicBezTo>
                  <a:pt x="24028" y="7433"/>
                  <a:pt x="24019" y="7450"/>
                  <a:pt x="24011" y="7466"/>
                </a:cubicBezTo>
              </a:path>
              <a:path w="3945" h="5656">
                <a:moveTo>
                  <a:pt x="24656" y="6623"/>
                </a:moveTo>
                <a:cubicBezTo>
                  <a:pt x="24567" y="6631"/>
                  <a:pt x="24418" y="6621"/>
                  <a:pt x="24383" y="6722"/>
                </a:cubicBezTo>
                <a:cubicBezTo>
                  <a:pt x="24355" y="6802"/>
                  <a:pt x="24343" y="6911"/>
                  <a:pt x="24333" y="6995"/>
                </a:cubicBezTo>
                <a:cubicBezTo>
                  <a:pt x="24426" y="6995"/>
                  <a:pt x="24511" y="6945"/>
                  <a:pt x="24606" y="6970"/>
                </a:cubicBezTo>
                <a:cubicBezTo>
                  <a:pt x="24735" y="7004"/>
                  <a:pt x="24787" y="7204"/>
                  <a:pt x="24681" y="7293"/>
                </a:cubicBezTo>
                <a:cubicBezTo>
                  <a:pt x="24585" y="7373"/>
                  <a:pt x="24487" y="7356"/>
                  <a:pt x="24383" y="7342"/>
                </a:cubicBezTo>
              </a:path>
              <a:path w="3945" h="5656">
                <a:moveTo>
                  <a:pt x="22473" y="5531"/>
                </a:moveTo>
                <a:cubicBezTo>
                  <a:pt x="22473" y="5523"/>
                  <a:pt x="22473" y="5515"/>
                  <a:pt x="22473" y="5507"/>
                </a:cubicBezTo>
                <a:cubicBezTo>
                  <a:pt x="22465" y="5557"/>
                  <a:pt x="22448" y="5706"/>
                  <a:pt x="22448" y="5655"/>
                </a:cubicBezTo>
                <a:cubicBezTo>
                  <a:pt x="22448" y="5615"/>
                  <a:pt x="22495" y="5489"/>
                  <a:pt x="22547" y="5507"/>
                </a:cubicBezTo>
                <a:cubicBezTo>
                  <a:pt x="22773" y="5585"/>
                  <a:pt x="22622" y="5999"/>
                  <a:pt x="22547" y="6127"/>
                </a:cubicBezTo>
                <a:cubicBezTo>
                  <a:pt x="22460" y="6275"/>
                  <a:pt x="22376" y="6313"/>
                  <a:pt x="22225" y="6350"/>
                </a:cubicBezTo>
                <a:cubicBezTo>
                  <a:pt x="22267" y="6205"/>
                  <a:pt x="22362" y="6111"/>
                  <a:pt x="22523" y="6102"/>
                </a:cubicBezTo>
                <a:cubicBezTo>
                  <a:pt x="22637" y="6096"/>
                  <a:pt x="22705" y="6207"/>
                  <a:pt x="22721" y="6300"/>
                </a:cubicBezTo>
              </a:path>
              <a:path w="3945" h="5656">
                <a:moveTo>
                  <a:pt x="22994" y="6152"/>
                </a:moveTo>
                <a:cubicBezTo>
                  <a:pt x="22994" y="6177"/>
                  <a:pt x="22994" y="6201"/>
                  <a:pt x="22994" y="6226"/>
                </a:cubicBezTo>
                <a:cubicBezTo>
                  <a:pt x="23023" y="6209"/>
                  <a:pt x="23116" y="6136"/>
                  <a:pt x="23044" y="6127"/>
                </a:cubicBezTo>
                <a:cubicBezTo>
                  <a:pt x="23036" y="6127"/>
                  <a:pt x="23027" y="6127"/>
                  <a:pt x="23019" y="6127"/>
                </a:cubicBezTo>
              </a:path>
              <a:path w="3945" h="5656">
                <a:moveTo>
                  <a:pt x="23540" y="5283"/>
                </a:moveTo>
                <a:cubicBezTo>
                  <a:pt x="23519" y="5291"/>
                  <a:pt x="23427" y="5341"/>
                  <a:pt x="23416" y="5358"/>
                </a:cubicBezTo>
                <a:cubicBezTo>
                  <a:pt x="23380" y="5414"/>
                  <a:pt x="23416" y="5578"/>
                  <a:pt x="23416" y="5655"/>
                </a:cubicBezTo>
                <a:cubicBezTo>
                  <a:pt x="23470" y="5628"/>
                  <a:pt x="23630" y="5601"/>
                  <a:pt x="23688" y="5655"/>
                </a:cubicBezTo>
                <a:cubicBezTo>
                  <a:pt x="23805" y="5763"/>
                  <a:pt x="23773" y="5959"/>
                  <a:pt x="23639" y="6028"/>
                </a:cubicBezTo>
                <a:cubicBezTo>
                  <a:pt x="23576" y="6060"/>
                  <a:pt x="23507" y="6052"/>
                  <a:pt x="23440" y="6052"/>
                </a:cubicBezTo>
                <a:cubicBezTo>
                  <a:pt x="23519" y="6037"/>
                  <a:pt x="23522" y="6014"/>
                  <a:pt x="23589" y="5953"/>
                </a:cubicBezTo>
              </a:path>
              <a:path w="3945" h="5656">
                <a:moveTo>
                  <a:pt x="23540" y="5358"/>
                </a:moveTo>
                <a:cubicBezTo>
                  <a:pt x="23632" y="5296"/>
                  <a:pt x="23751" y="5259"/>
                  <a:pt x="23862" y="5234"/>
                </a:cubicBezTo>
                <a:cubicBezTo>
                  <a:pt x="23870" y="5234"/>
                  <a:pt x="23879" y="5234"/>
                  <a:pt x="23887" y="5234"/>
                </a:cubicBezTo>
              </a:path>
              <a:path w="3945" h="5656">
                <a:moveTo>
                  <a:pt x="21555" y="7169"/>
                </a:moveTo>
                <a:cubicBezTo>
                  <a:pt x="21672" y="7169"/>
                  <a:pt x="21765" y="7143"/>
                  <a:pt x="21878" y="7119"/>
                </a:cubicBezTo>
                <a:cubicBezTo>
                  <a:pt x="21906" y="7119"/>
                  <a:pt x="21917" y="7117"/>
                  <a:pt x="21927" y="7094"/>
                </a:cubicBezTo>
              </a:path>
              <a:path w="3945" h="5656">
                <a:moveTo>
                  <a:pt x="21382" y="7987"/>
                </a:moveTo>
                <a:cubicBezTo>
                  <a:pt x="21620" y="7955"/>
                  <a:pt x="21860" y="7931"/>
                  <a:pt x="22101" y="7913"/>
                </a:cubicBezTo>
                <a:cubicBezTo>
                  <a:pt x="22655" y="7872"/>
                  <a:pt x="23210" y="7848"/>
                  <a:pt x="23763" y="7813"/>
                </a:cubicBezTo>
                <a:cubicBezTo>
                  <a:pt x="24019" y="7797"/>
                  <a:pt x="24278" y="7769"/>
                  <a:pt x="24532" y="7739"/>
                </a:cubicBezTo>
                <a:cubicBezTo>
                  <a:pt x="24788" y="7709"/>
                  <a:pt x="25045" y="7710"/>
                  <a:pt x="25301" y="7689"/>
                </a:cubicBezTo>
                <a:cubicBezTo>
                  <a:pt x="25309" y="7689"/>
                  <a:pt x="25318" y="7689"/>
                  <a:pt x="25326" y="7689"/>
                </a:cubicBezTo>
              </a:path>
              <a:path w="3945" h="5656">
                <a:moveTo>
                  <a:pt x="24259" y="5482"/>
                </a:moveTo>
                <a:cubicBezTo>
                  <a:pt x="24238" y="5420"/>
                  <a:pt x="24147" y="5549"/>
                  <a:pt x="24110" y="5606"/>
                </a:cubicBezTo>
                <a:cubicBezTo>
                  <a:pt x="24046" y="5705"/>
                  <a:pt x="23869" y="6071"/>
                  <a:pt x="24135" y="6077"/>
                </a:cubicBezTo>
                <a:cubicBezTo>
                  <a:pt x="24305" y="6081"/>
                  <a:pt x="24503" y="5786"/>
                  <a:pt x="24408" y="5631"/>
                </a:cubicBezTo>
                <a:cubicBezTo>
                  <a:pt x="24398" y="5614"/>
                  <a:pt x="24253" y="5562"/>
                  <a:pt x="24234" y="5556"/>
                </a:cubicBezTo>
              </a:path>
              <a:path w="3945" h="5656">
                <a:moveTo>
                  <a:pt x="24780" y="5407"/>
                </a:moveTo>
                <a:cubicBezTo>
                  <a:pt x="24742" y="5561"/>
                  <a:pt x="24693" y="5725"/>
                  <a:pt x="24681" y="5904"/>
                </a:cubicBezTo>
                <a:cubicBezTo>
                  <a:pt x="24681" y="5998"/>
                  <a:pt x="24660" y="6018"/>
                  <a:pt x="24705" y="6052"/>
                </a:cubicBezTo>
                <a:cubicBezTo>
                  <a:pt x="24875" y="5937"/>
                  <a:pt x="25018" y="5789"/>
                  <a:pt x="24978" y="5556"/>
                </a:cubicBezTo>
                <a:cubicBezTo>
                  <a:pt x="24957" y="5436"/>
                  <a:pt x="24838" y="5443"/>
                  <a:pt x="24755" y="5432"/>
                </a:cubicBezTo>
              </a:path>
              <a:path w="3945" h="5656">
                <a:moveTo>
                  <a:pt x="22746" y="7392"/>
                </a:moveTo>
                <a:cubicBezTo>
                  <a:pt x="22746" y="7367"/>
                  <a:pt x="22746" y="7359"/>
                  <a:pt x="22746" y="7342"/>
                </a:cubicBezTo>
                <a:cubicBezTo>
                  <a:pt x="22694" y="7342"/>
                  <a:pt x="22696" y="7373"/>
                  <a:pt x="22696" y="7342"/>
                </a:cubicBezTo>
              </a:path>
              <a:path w="3945" h="5656">
                <a:moveTo>
                  <a:pt x="23912" y="5035"/>
                </a:moveTo>
                <a:cubicBezTo>
                  <a:pt x="23937" y="5035"/>
                  <a:pt x="23945" y="5035"/>
                  <a:pt x="23937" y="5060"/>
                </a:cubicBezTo>
                <a:cubicBezTo>
                  <a:pt x="23923" y="5087"/>
                  <a:pt x="23894" y="5104"/>
                  <a:pt x="23912" y="5159"/>
                </a:cubicBezTo>
                <a:cubicBezTo>
                  <a:pt x="23933" y="5222"/>
                  <a:pt x="23961" y="5224"/>
                  <a:pt x="23961" y="5308"/>
                </a:cubicBezTo>
                <a:cubicBezTo>
                  <a:pt x="23961" y="5393"/>
                  <a:pt x="23943" y="5429"/>
                  <a:pt x="23912" y="5507"/>
                </a:cubicBezTo>
                <a:cubicBezTo>
                  <a:pt x="23885" y="5575"/>
                  <a:pt x="23866" y="5670"/>
                  <a:pt x="23837" y="5730"/>
                </a:cubicBezTo>
                <a:cubicBezTo>
                  <a:pt x="23803" y="5801"/>
                  <a:pt x="23764" y="5916"/>
                  <a:pt x="23713" y="5978"/>
                </a:cubicBezTo>
                <a:cubicBezTo>
                  <a:pt x="23623" y="6087"/>
                  <a:pt x="23540" y="6203"/>
                  <a:pt x="23465" y="6325"/>
                </a:cubicBezTo>
                <a:cubicBezTo>
                  <a:pt x="23437" y="6371"/>
                  <a:pt x="23440" y="6376"/>
                  <a:pt x="23416" y="6424"/>
                </a:cubicBezTo>
              </a:path>
              <a:path w="3945" h="5656">
                <a:moveTo>
                  <a:pt x="23416" y="4415"/>
                </a:moveTo>
                <a:cubicBezTo>
                  <a:pt x="23400" y="4524"/>
                  <a:pt x="23371" y="4627"/>
                  <a:pt x="23366" y="4738"/>
                </a:cubicBezTo>
                <a:cubicBezTo>
                  <a:pt x="23361" y="4862"/>
                  <a:pt x="23529" y="4802"/>
                  <a:pt x="23589" y="4787"/>
                </a:cubicBezTo>
                <a:cubicBezTo>
                  <a:pt x="23597" y="4787"/>
                  <a:pt x="23606" y="4787"/>
                  <a:pt x="23614" y="4787"/>
                </a:cubicBezTo>
              </a:path>
              <a:path w="3945" h="5656">
                <a:moveTo>
                  <a:pt x="23688" y="4390"/>
                </a:moveTo>
                <a:cubicBezTo>
                  <a:pt x="23626" y="4498"/>
                  <a:pt x="23622" y="4711"/>
                  <a:pt x="23614" y="4837"/>
                </a:cubicBezTo>
                <a:cubicBezTo>
                  <a:pt x="23607" y="4944"/>
                  <a:pt x="23610" y="5024"/>
                  <a:pt x="23639" y="5110"/>
                </a:cubicBezTo>
                <a:cubicBezTo>
                  <a:pt x="23639" y="5118"/>
                  <a:pt x="23639" y="5127"/>
                  <a:pt x="23639" y="5135"/>
                </a:cubicBezTo>
              </a:path>
              <a:path w="3945" h="5656">
                <a:moveTo>
                  <a:pt x="24085" y="5358"/>
                </a:moveTo>
                <a:cubicBezTo>
                  <a:pt x="24117" y="5439"/>
                  <a:pt x="24066" y="5573"/>
                  <a:pt x="24036" y="5680"/>
                </a:cubicBezTo>
                <a:cubicBezTo>
                  <a:pt x="24036" y="5688"/>
                  <a:pt x="24036" y="5697"/>
                  <a:pt x="24036" y="5705"/>
                </a:cubicBezTo>
                <a:cubicBezTo>
                  <a:pt x="24050" y="5605"/>
                  <a:pt x="24070" y="5507"/>
                  <a:pt x="24085" y="5407"/>
                </a:cubicBezTo>
                <a:cubicBezTo>
                  <a:pt x="24092" y="5361"/>
                  <a:pt x="24068" y="5347"/>
                  <a:pt x="24110" y="5333"/>
                </a:cubicBezTo>
              </a:path>
              <a:path w="3945" h="5656">
                <a:moveTo>
                  <a:pt x="24482" y="5209"/>
                </a:moveTo>
                <a:cubicBezTo>
                  <a:pt x="24490" y="5209"/>
                  <a:pt x="24499" y="5209"/>
                  <a:pt x="24507" y="5209"/>
                </a:cubicBezTo>
                <a:cubicBezTo>
                  <a:pt x="24456" y="5234"/>
                  <a:pt x="24463" y="5259"/>
                  <a:pt x="24433" y="5308"/>
                </a:cubicBezTo>
                <a:cubicBezTo>
                  <a:pt x="24343" y="5456"/>
                  <a:pt x="24295" y="5641"/>
                  <a:pt x="24234" y="5804"/>
                </a:cubicBezTo>
                <a:cubicBezTo>
                  <a:pt x="24176" y="5959"/>
                  <a:pt x="24116" y="6158"/>
                  <a:pt x="24036" y="6300"/>
                </a:cubicBezTo>
                <a:cubicBezTo>
                  <a:pt x="24013" y="6341"/>
                  <a:pt x="24018" y="6329"/>
                  <a:pt x="24011" y="6375"/>
                </a:cubicBezTo>
              </a:path>
              <a:path w="3945" h="5656">
                <a:moveTo>
                  <a:pt x="24309" y="4266"/>
                </a:moveTo>
                <a:cubicBezTo>
                  <a:pt x="24333" y="4266"/>
                  <a:pt x="24341" y="4266"/>
                  <a:pt x="24333" y="4291"/>
                </a:cubicBezTo>
                <a:cubicBezTo>
                  <a:pt x="24372" y="4272"/>
                  <a:pt x="24291" y="4203"/>
                  <a:pt x="24234" y="4192"/>
                </a:cubicBezTo>
                <a:cubicBezTo>
                  <a:pt x="24109" y="4169"/>
                  <a:pt x="24036" y="4447"/>
                  <a:pt x="24036" y="4539"/>
                </a:cubicBezTo>
                <a:cubicBezTo>
                  <a:pt x="24044" y="4556"/>
                  <a:pt x="24053" y="4572"/>
                  <a:pt x="24061" y="4589"/>
                </a:cubicBezTo>
                <a:cubicBezTo>
                  <a:pt x="24212" y="4589"/>
                  <a:pt x="24217" y="4583"/>
                  <a:pt x="24259" y="4440"/>
                </a:cubicBezTo>
                <a:cubicBezTo>
                  <a:pt x="24279" y="4372"/>
                  <a:pt x="24284" y="4350"/>
                  <a:pt x="24284" y="4291"/>
                </a:cubicBezTo>
                <a:cubicBezTo>
                  <a:pt x="24336" y="4428"/>
                  <a:pt x="24319" y="4587"/>
                  <a:pt x="24309" y="4738"/>
                </a:cubicBezTo>
                <a:cubicBezTo>
                  <a:pt x="24309" y="4762"/>
                  <a:pt x="24309" y="4771"/>
                  <a:pt x="24309" y="4787"/>
                </a:cubicBezTo>
              </a:path>
              <a:path w="3945" h="5656">
                <a:moveTo>
                  <a:pt x="24581" y="5358"/>
                </a:moveTo>
                <a:cubicBezTo>
                  <a:pt x="24581" y="5275"/>
                  <a:pt x="24563" y="5473"/>
                  <a:pt x="24557" y="5556"/>
                </a:cubicBezTo>
                <a:cubicBezTo>
                  <a:pt x="24553" y="5612"/>
                  <a:pt x="24557" y="5673"/>
                  <a:pt x="24557" y="5730"/>
                </a:cubicBezTo>
              </a:path>
              <a:path w="3945" h="5656">
                <a:moveTo>
                  <a:pt x="24879" y="8111"/>
                </a:moveTo>
                <a:cubicBezTo>
                  <a:pt x="24945" y="8111"/>
                  <a:pt x="24796" y="8101"/>
                  <a:pt x="24730" y="8111"/>
                </a:cubicBezTo>
                <a:cubicBezTo>
                  <a:pt x="24585" y="8133"/>
                  <a:pt x="24604" y="8180"/>
                  <a:pt x="24631" y="8310"/>
                </a:cubicBezTo>
                <a:cubicBezTo>
                  <a:pt x="24643" y="8367"/>
                  <a:pt x="24651" y="8394"/>
                  <a:pt x="24681" y="8434"/>
                </a:cubicBezTo>
                <a:cubicBezTo>
                  <a:pt x="24730" y="8372"/>
                  <a:pt x="24884" y="8310"/>
                  <a:pt x="24978" y="8359"/>
                </a:cubicBezTo>
                <a:cubicBezTo>
                  <a:pt x="25160" y="8454"/>
                  <a:pt x="25015" y="8603"/>
                  <a:pt x="24904" y="8657"/>
                </a:cubicBezTo>
                <a:cubicBezTo>
                  <a:pt x="24818" y="8699"/>
                  <a:pt x="24726" y="8731"/>
                  <a:pt x="24631" y="8731"/>
                </a:cubicBezTo>
              </a:path>
              <a:path w="3945" h="5656">
                <a:moveTo>
                  <a:pt x="24209" y="8260"/>
                </a:moveTo>
                <a:cubicBezTo>
                  <a:pt x="24185" y="8406"/>
                  <a:pt x="24106" y="8500"/>
                  <a:pt x="24085" y="8657"/>
                </a:cubicBezTo>
                <a:cubicBezTo>
                  <a:pt x="24068" y="8789"/>
                  <a:pt x="24203" y="8879"/>
                  <a:pt x="24309" y="8756"/>
                </a:cubicBezTo>
                <a:cubicBezTo>
                  <a:pt x="24356" y="8702"/>
                  <a:pt x="24444" y="8406"/>
                  <a:pt x="24358" y="8359"/>
                </a:cubicBezTo>
                <a:cubicBezTo>
                  <a:pt x="24270" y="8311"/>
                  <a:pt x="24302" y="8348"/>
                  <a:pt x="24234" y="8235"/>
                </a:cubicBezTo>
              </a:path>
              <a:path w="3945" h="5656">
                <a:moveTo>
                  <a:pt x="23465" y="8384"/>
                </a:moveTo>
                <a:cubicBezTo>
                  <a:pt x="23489" y="8540"/>
                  <a:pt x="23506" y="8727"/>
                  <a:pt x="23540" y="8880"/>
                </a:cubicBezTo>
                <a:cubicBezTo>
                  <a:pt x="23548" y="8888"/>
                  <a:pt x="23556" y="8897"/>
                  <a:pt x="23564" y="8905"/>
                </a:cubicBezTo>
              </a:path>
              <a:path w="3945" h="5656">
                <a:moveTo>
                  <a:pt x="22374" y="8434"/>
                </a:moveTo>
                <a:cubicBezTo>
                  <a:pt x="22374" y="8341"/>
                  <a:pt x="22398" y="8567"/>
                  <a:pt x="22423" y="8657"/>
                </a:cubicBezTo>
                <a:cubicBezTo>
                  <a:pt x="22462" y="8800"/>
                  <a:pt x="22498" y="8930"/>
                  <a:pt x="22498" y="9079"/>
                </a:cubicBezTo>
              </a:path>
              <a:path w="3945" h="5656">
                <a:moveTo>
                  <a:pt x="22994" y="8954"/>
                </a:moveTo>
                <a:cubicBezTo>
                  <a:pt x="23054" y="8868"/>
                  <a:pt x="22946" y="9026"/>
                  <a:pt x="22944" y="9029"/>
                </a:cubicBezTo>
                <a:cubicBezTo>
                  <a:pt x="22962" y="9035"/>
                  <a:pt x="23151" y="9026"/>
                  <a:pt x="23093" y="8954"/>
                </a:cubicBezTo>
                <a:cubicBezTo>
                  <a:pt x="23029" y="8874"/>
                  <a:pt x="23000" y="8961"/>
                  <a:pt x="22994" y="9004"/>
                </a:cubicBezTo>
                <a:cubicBezTo>
                  <a:pt x="23024" y="8984"/>
                  <a:pt x="23051" y="8960"/>
                  <a:pt x="22994" y="8979"/>
                </a:cubicBezTo>
              </a:path>
              <a:path w="3945" h="5656">
                <a:moveTo>
                  <a:pt x="24061" y="9599"/>
                </a:moveTo>
                <a:cubicBezTo>
                  <a:pt x="24077" y="9681"/>
                  <a:pt x="24103" y="9776"/>
                  <a:pt x="24135" y="9847"/>
                </a:cubicBezTo>
                <a:cubicBezTo>
                  <a:pt x="24269" y="9714"/>
                  <a:pt x="24328" y="9467"/>
                  <a:pt x="24457" y="9302"/>
                </a:cubicBezTo>
                <a:cubicBezTo>
                  <a:pt x="24516" y="9302"/>
                  <a:pt x="24531" y="9335"/>
                  <a:pt x="24507" y="942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83160" y="2874960"/>
            <a:ext cx="330120" cy="455760"/>
          </a:xfrm>
          <a:custGeom>
            <a:avLst/>
            <a:gdLst/>
            <a:ahLst/>
            <a:rect l="l" t="t" r="r" b="b"/>
            <a:pathLst>
              <a:path w="919" h="1266">
                <a:moveTo>
                  <a:pt x="16123" y="8012"/>
                </a:moveTo>
                <a:cubicBezTo>
                  <a:pt x="16148" y="8012"/>
                  <a:pt x="16156" y="8012"/>
                  <a:pt x="16148" y="7987"/>
                </a:cubicBezTo>
                <a:cubicBezTo>
                  <a:pt x="16063" y="8186"/>
                  <a:pt x="15970" y="8362"/>
                  <a:pt x="15825" y="8533"/>
                </a:cubicBezTo>
                <a:cubicBezTo>
                  <a:pt x="15656" y="8732"/>
                  <a:pt x="15487" y="8969"/>
                  <a:pt x="15304" y="9153"/>
                </a:cubicBezTo>
                <a:cubicBezTo>
                  <a:pt x="15256" y="9201"/>
                  <a:pt x="15264" y="9196"/>
                  <a:pt x="15230" y="925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0240" y="2411280"/>
            <a:ext cx="196920" cy="330480"/>
          </a:xfrm>
          <a:custGeom>
            <a:avLst/>
            <a:gdLst/>
            <a:ahLst/>
            <a:rect l="l" t="t" r="r" b="b"/>
            <a:pathLst>
              <a:path w="547" h="919">
                <a:moveTo>
                  <a:pt x="15106" y="6772"/>
                </a:moveTo>
                <a:cubicBezTo>
                  <a:pt x="15047" y="6907"/>
                  <a:pt x="15084" y="6784"/>
                  <a:pt x="15131" y="6747"/>
                </a:cubicBezTo>
                <a:cubicBezTo>
                  <a:pt x="15164" y="6730"/>
                  <a:pt x="15197" y="6714"/>
                  <a:pt x="15230" y="6697"/>
                </a:cubicBezTo>
                <a:cubicBezTo>
                  <a:pt x="15435" y="7005"/>
                  <a:pt x="15377" y="7210"/>
                  <a:pt x="15056" y="7441"/>
                </a:cubicBezTo>
                <a:cubicBezTo>
                  <a:pt x="14924" y="7498"/>
                  <a:pt x="14905" y="7543"/>
                  <a:pt x="14833" y="7491"/>
                </a:cubicBezTo>
                <a:cubicBezTo>
                  <a:pt x="14859" y="7283"/>
                  <a:pt x="14909" y="7242"/>
                  <a:pt x="15131" y="7293"/>
                </a:cubicBezTo>
                <a:cubicBezTo>
                  <a:pt x="15329" y="7338"/>
                  <a:pt x="15382" y="7433"/>
                  <a:pt x="15354" y="761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26337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5701" y="7317"/>
                </a:moveTo>
                <a:cubicBezTo>
                  <a:pt x="15701" y="7342"/>
                  <a:pt x="15701" y="7350"/>
                  <a:pt x="15701" y="731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2384280"/>
            <a:ext cx="162000" cy="25884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6321" y="6672"/>
                </a:moveTo>
                <a:cubicBezTo>
                  <a:pt x="16245" y="6661"/>
                  <a:pt x="16172" y="6635"/>
                  <a:pt x="16098" y="6623"/>
                </a:cubicBezTo>
                <a:cubicBezTo>
                  <a:pt x="16098" y="6724"/>
                  <a:pt x="16058" y="6819"/>
                  <a:pt x="16049" y="6921"/>
                </a:cubicBezTo>
                <a:cubicBezTo>
                  <a:pt x="16045" y="6967"/>
                  <a:pt x="16049" y="7021"/>
                  <a:pt x="16049" y="7069"/>
                </a:cubicBezTo>
                <a:cubicBezTo>
                  <a:pt x="16186" y="6992"/>
                  <a:pt x="16318" y="7006"/>
                  <a:pt x="16470" y="7020"/>
                </a:cubicBezTo>
                <a:cubicBezTo>
                  <a:pt x="16494" y="7177"/>
                  <a:pt x="16439" y="7318"/>
                  <a:pt x="16247" y="7342"/>
                </a:cubicBezTo>
                <a:cubicBezTo>
                  <a:pt x="16214" y="7334"/>
                  <a:pt x="16181" y="7325"/>
                  <a:pt x="16148" y="731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3720" y="2616120"/>
            <a:ext cx="27000" cy="54000"/>
          </a:xfrm>
          <a:custGeom>
            <a:avLst/>
            <a:gdLst/>
            <a:ahLst/>
            <a:rect l="l" t="t" r="r" b="b"/>
            <a:pathLst>
              <a:path w="75" h="150">
                <a:moveTo>
                  <a:pt x="15726" y="7417"/>
                </a:moveTo>
                <a:cubicBezTo>
                  <a:pt x="15746" y="7370"/>
                  <a:pt x="15751" y="7216"/>
                  <a:pt x="15751" y="7268"/>
                </a:cubicBezTo>
                <a:cubicBezTo>
                  <a:pt x="15751" y="7301"/>
                  <a:pt x="15783" y="7265"/>
                  <a:pt x="15751" y="7268"/>
                </a:cubicBezTo>
                <a:cubicBezTo>
                  <a:pt x="15690" y="7274"/>
                  <a:pt x="15686" y="7322"/>
                  <a:pt x="15677" y="736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2960" y="3510000"/>
            <a:ext cx="258840" cy="241200"/>
          </a:xfrm>
          <a:custGeom>
            <a:avLst/>
            <a:gdLst/>
            <a:ahLst/>
            <a:rect l="l" t="t" r="r" b="b"/>
            <a:pathLst>
              <a:path w="720" h="671">
                <a:moveTo>
                  <a:pt x="15404" y="9748"/>
                </a:moveTo>
                <a:cubicBezTo>
                  <a:pt x="15389" y="9763"/>
                  <a:pt x="15266" y="9931"/>
                  <a:pt x="15255" y="9847"/>
                </a:cubicBezTo>
                <a:cubicBezTo>
                  <a:pt x="15252" y="9825"/>
                  <a:pt x="15303" y="9784"/>
                  <a:pt x="15280" y="9823"/>
                </a:cubicBezTo>
                <a:cubicBezTo>
                  <a:pt x="15233" y="9892"/>
                  <a:pt x="15221" y="9912"/>
                  <a:pt x="15180" y="9947"/>
                </a:cubicBezTo>
                <a:cubicBezTo>
                  <a:pt x="15279" y="9832"/>
                  <a:pt x="15288" y="9820"/>
                  <a:pt x="15429" y="9773"/>
                </a:cubicBezTo>
                <a:cubicBezTo>
                  <a:pt x="15552" y="9969"/>
                  <a:pt x="15496" y="10147"/>
                  <a:pt x="15304" y="10294"/>
                </a:cubicBezTo>
                <a:cubicBezTo>
                  <a:pt x="15172" y="10395"/>
                  <a:pt x="14917" y="10489"/>
                  <a:pt x="14784" y="10344"/>
                </a:cubicBezTo>
                <a:cubicBezTo>
                  <a:pt x="14784" y="10336"/>
                  <a:pt x="14784" y="10327"/>
                  <a:pt x="14784" y="10319"/>
                </a:cubicBezTo>
                <a:cubicBezTo>
                  <a:pt x="14900" y="10201"/>
                  <a:pt x="15048" y="10236"/>
                  <a:pt x="15205" y="10294"/>
                </a:cubicBezTo>
                <a:cubicBezTo>
                  <a:pt x="15308" y="10332"/>
                  <a:pt x="15325" y="10393"/>
                  <a:pt x="15429" y="10393"/>
                </a:cubicBezTo>
                <a:cubicBezTo>
                  <a:pt x="15453" y="10393"/>
                  <a:pt x="15462" y="10393"/>
                  <a:pt x="15478" y="1039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65920" y="3687840"/>
            <a:ext cx="150840" cy="9360"/>
          </a:xfrm>
          <a:custGeom>
            <a:avLst/>
            <a:gdLst/>
            <a:ahLst/>
            <a:rect l="l" t="t" r="r" b="b"/>
            <a:pathLst>
              <a:path w="422" h="26">
                <a:moveTo>
                  <a:pt x="16594" y="10269"/>
                </a:moveTo>
                <a:cubicBezTo>
                  <a:pt x="16586" y="10269"/>
                  <a:pt x="16578" y="10269"/>
                  <a:pt x="16570" y="10269"/>
                </a:cubicBezTo>
                <a:cubicBezTo>
                  <a:pt x="16668" y="10240"/>
                  <a:pt x="16843" y="10269"/>
                  <a:pt x="16966" y="10269"/>
                </a:cubicBezTo>
                <a:cubicBezTo>
                  <a:pt x="16974" y="10269"/>
                  <a:pt x="16983" y="10269"/>
                  <a:pt x="16991" y="1026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6880" y="3544920"/>
            <a:ext cx="46080" cy="223920"/>
          </a:xfrm>
          <a:custGeom>
            <a:avLst/>
            <a:gdLst/>
            <a:ahLst/>
            <a:rect l="l" t="t" r="r" b="b"/>
            <a:pathLst>
              <a:path w="125" h="622">
                <a:moveTo>
                  <a:pt x="18008" y="9872"/>
                </a:moveTo>
                <a:cubicBezTo>
                  <a:pt x="18016" y="9864"/>
                  <a:pt x="18025" y="9855"/>
                  <a:pt x="18033" y="9847"/>
                </a:cubicBezTo>
                <a:cubicBezTo>
                  <a:pt x="18007" y="10005"/>
                  <a:pt x="18001" y="10189"/>
                  <a:pt x="17959" y="10344"/>
                </a:cubicBezTo>
                <a:cubicBezTo>
                  <a:pt x="17922" y="10417"/>
                  <a:pt x="17905" y="10422"/>
                  <a:pt x="17909" y="1046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85000" y="3660840"/>
            <a:ext cx="169920" cy="9360"/>
          </a:xfrm>
          <a:custGeom>
            <a:avLst/>
            <a:gdLst/>
            <a:ahLst/>
            <a:rect l="l" t="t" r="r" b="b"/>
            <a:pathLst>
              <a:path w="473" h="26">
                <a:moveTo>
                  <a:pt x="19124" y="10195"/>
                </a:moveTo>
                <a:cubicBezTo>
                  <a:pt x="19261" y="10165"/>
                  <a:pt x="19457" y="10133"/>
                  <a:pt x="19596" y="10170"/>
                </a:cubicBezTo>
                <a:cubicBezTo>
                  <a:pt x="19596" y="10178"/>
                  <a:pt x="19596" y="10187"/>
                  <a:pt x="19596" y="1019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11200" y="5187960"/>
            <a:ext cx="1990800" cy="492120"/>
          </a:xfrm>
          <a:custGeom>
            <a:avLst/>
            <a:gdLst/>
            <a:ahLst/>
            <a:rect l="l" t="t" r="r" b="b"/>
            <a:pathLst>
              <a:path w="5533" h="1365">
                <a:moveTo>
                  <a:pt x="3919" y="14833"/>
                </a:moveTo>
                <a:cubicBezTo>
                  <a:pt x="3927" y="14833"/>
                  <a:pt x="3936" y="14833"/>
                  <a:pt x="3944" y="14833"/>
                </a:cubicBezTo>
              </a:path>
              <a:path w="5533" h="1365">
                <a:moveTo>
                  <a:pt x="5234" y="14412"/>
                </a:moveTo>
                <a:cubicBezTo>
                  <a:pt x="5247" y="14511"/>
                  <a:pt x="5276" y="14605"/>
                  <a:pt x="5283" y="14709"/>
                </a:cubicBezTo>
              </a:path>
              <a:path w="5533" h="1365">
                <a:moveTo>
                  <a:pt x="7913" y="14511"/>
                </a:moveTo>
                <a:cubicBezTo>
                  <a:pt x="8082" y="14467"/>
                  <a:pt x="8211" y="14443"/>
                  <a:pt x="8384" y="14436"/>
                </a:cubicBezTo>
              </a:path>
              <a:path w="5533" h="1365">
                <a:moveTo>
                  <a:pt x="9153" y="14436"/>
                </a:moveTo>
                <a:lnTo>
                  <a:pt x="9153" y="14436"/>
                </a:lnTo>
              </a:path>
              <a:path w="5533" h="1365">
                <a:moveTo>
                  <a:pt x="7714" y="14560"/>
                </a:moveTo>
                <a:cubicBezTo>
                  <a:pt x="7817" y="14546"/>
                  <a:pt x="7911" y="14514"/>
                  <a:pt x="8012" y="14486"/>
                </a:cubicBezTo>
              </a:path>
              <a:path w="5533" h="1365">
                <a:moveTo>
                  <a:pt x="9451" y="15379"/>
                </a:moveTo>
                <a:cubicBezTo>
                  <a:pt x="9451" y="15404"/>
                  <a:pt x="9451" y="15412"/>
                  <a:pt x="9426" y="15404"/>
                </a:cubicBezTo>
              </a:path>
              <a:path w="5533" h="1365">
                <a:moveTo>
                  <a:pt x="4490" y="15776"/>
                </a:moveTo>
                <a:cubicBezTo>
                  <a:pt x="4642" y="15699"/>
                  <a:pt x="4697" y="15672"/>
                  <a:pt x="4812" y="15652"/>
                </a:cubicBezTo>
              </a:path>
              <a:path w="5533" h="1365">
                <a:moveTo>
                  <a:pt x="4812" y="15652"/>
                </a:moveTo>
                <a:lnTo>
                  <a:pt x="4812" y="15652"/>
                </a:lnTo>
              </a:path>
              <a:path w="5533" h="1365">
                <a:moveTo>
                  <a:pt x="5680" y="15528"/>
                </a:moveTo>
                <a:cubicBezTo>
                  <a:pt x="5786" y="15475"/>
                  <a:pt x="5901" y="15397"/>
                  <a:pt x="5953" y="15503"/>
                </a:cubicBezTo>
              </a:path>
              <a:path w="5533" h="1365">
                <a:moveTo>
                  <a:pt x="5730" y="15677"/>
                </a:moveTo>
                <a:cubicBezTo>
                  <a:pt x="5845" y="15648"/>
                  <a:pt x="5894" y="15637"/>
                  <a:pt x="5978" y="15627"/>
                </a:cubicBezTo>
              </a:path>
              <a:path w="5533" h="1365">
                <a:moveTo>
                  <a:pt x="5978" y="15627"/>
                </a:moveTo>
                <a:lnTo>
                  <a:pt x="5978" y="15627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7000" y="5153040"/>
            <a:ext cx="741240" cy="554040"/>
          </a:xfrm>
          <a:custGeom>
            <a:avLst/>
            <a:gdLst/>
            <a:ahLst/>
            <a:rect l="l" t="t" r="r" b="b"/>
            <a:pathLst>
              <a:path w="2060" h="1539">
                <a:moveTo>
                  <a:pt x="3547" y="14536"/>
                </a:moveTo>
                <a:cubicBezTo>
                  <a:pt x="3547" y="14574"/>
                  <a:pt x="3596" y="14461"/>
                  <a:pt x="3646" y="14436"/>
                </a:cubicBezTo>
                <a:cubicBezTo>
                  <a:pt x="3663" y="14436"/>
                  <a:pt x="3679" y="14436"/>
                  <a:pt x="3696" y="14436"/>
                </a:cubicBezTo>
                <a:cubicBezTo>
                  <a:pt x="3737" y="14652"/>
                  <a:pt x="3704" y="14924"/>
                  <a:pt x="3448" y="15032"/>
                </a:cubicBezTo>
                <a:cubicBezTo>
                  <a:pt x="3340" y="15032"/>
                  <a:pt x="3299" y="15048"/>
                  <a:pt x="3324" y="14957"/>
                </a:cubicBezTo>
                <a:cubicBezTo>
                  <a:pt x="3437" y="14832"/>
                  <a:pt x="3514" y="14788"/>
                  <a:pt x="3646" y="14932"/>
                </a:cubicBezTo>
                <a:cubicBezTo>
                  <a:pt x="3684" y="14989"/>
                  <a:pt x="3701" y="14992"/>
                  <a:pt x="3696" y="15032"/>
                </a:cubicBezTo>
              </a:path>
              <a:path w="2060" h="1539">
                <a:moveTo>
                  <a:pt x="4415" y="14312"/>
                </a:moveTo>
                <a:cubicBezTo>
                  <a:pt x="4324" y="14347"/>
                  <a:pt x="4311" y="14333"/>
                  <a:pt x="4266" y="14436"/>
                </a:cubicBezTo>
                <a:cubicBezTo>
                  <a:pt x="4247" y="14494"/>
                  <a:pt x="4239" y="14501"/>
                  <a:pt x="4242" y="14536"/>
                </a:cubicBezTo>
                <a:cubicBezTo>
                  <a:pt x="4298" y="14555"/>
                  <a:pt x="4369" y="14498"/>
                  <a:pt x="4440" y="14511"/>
                </a:cubicBezTo>
                <a:cubicBezTo>
                  <a:pt x="4598" y="14539"/>
                  <a:pt x="4649" y="14717"/>
                  <a:pt x="4514" y="14808"/>
                </a:cubicBezTo>
                <a:cubicBezTo>
                  <a:pt x="4408" y="14880"/>
                  <a:pt x="4376" y="14865"/>
                  <a:pt x="4291" y="14808"/>
                </a:cubicBezTo>
              </a:path>
              <a:path w="2060" h="1539">
                <a:moveTo>
                  <a:pt x="5035" y="14610"/>
                </a:moveTo>
                <a:cubicBezTo>
                  <a:pt x="5144" y="14577"/>
                  <a:pt x="5242" y="14536"/>
                  <a:pt x="5358" y="14536"/>
                </a:cubicBezTo>
                <a:cubicBezTo>
                  <a:pt x="5366" y="14536"/>
                  <a:pt x="5375" y="14536"/>
                  <a:pt x="5383" y="14536"/>
                </a:cubicBezTo>
              </a:path>
              <a:path w="2060" h="1539">
                <a:moveTo>
                  <a:pt x="5060" y="15528"/>
                </a:moveTo>
                <a:cubicBezTo>
                  <a:pt x="5042" y="15638"/>
                  <a:pt x="5020" y="15714"/>
                  <a:pt x="5035" y="15825"/>
                </a:cubicBezTo>
                <a:cubicBezTo>
                  <a:pt x="5086" y="15847"/>
                  <a:pt x="5307" y="15866"/>
                  <a:pt x="5308" y="15751"/>
                </a:cubicBezTo>
                <a:cubicBezTo>
                  <a:pt x="5308" y="15682"/>
                  <a:pt x="5136" y="15765"/>
                  <a:pt x="5110" y="15776"/>
                </a:cubicBezTo>
                <a:cubicBezTo>
                  <a:pt x="5110" y="15843"/>
                  <a:pt x="5127" y="15855"/>
                  <a:pt x="5209" y="1580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41720" y="5153040"/>
            <a:ext cx="142560" cy="534960"/>
          </a:xfrm>
          <a:custGeom>
            <a:avLst/>
            <a:gdLst/>
            <a:ahLst/>
            <a:rect l="l" t="t" r="r" b="b"/>
            <a:pathLst>
              <a:path w="398" h="1490">
                <a:moveTo>
                  <a:pt x="6251" y="14312"/>
                </a:moveTo>
                <a:cubicBezTo>
                  <a:pt x="6251" y="14462"/>
                  <a:pt x="6211" y="14610"/>
                  <a:pt x="6226" y="14759"/>
                </a:cubicBezTo>
                <a:cubicBezTo>
                  <a:pt x="6246" y="14955"/>
                  <a:pt x="6493" y="14814"/>
                  <a:pt x="6573" y="14759"/>
                </a:cubicBezTo>
                <a:cubicBezTo>
                  <a:pt x="6618" y="14714"/>
                  <a:pt x="6635" y="14705"/>
                  <a:pt x="6623" y="14660"/>
                </a:cubicBezTo>
                <a:cubicBezTo>
                  <a:pt x="6525" y="14623"/>
                  <a:pt x="6467" y="14646"/>
                  <a:pt x="6424" y="14759"/>
                </a:cubicBezTo>
                <a:cubicBezTo>
                  <a:pt x="6424" y="14826"/>
                  <a:pt x="6441" y="14838"/>
                  <a:pt x="6524" y="14784"/>
                </a:cubicBezTo>
              </a:path>
              <a:path w="398" h="1490">
                <a:moveTo>
                  <a:pt x="6499" y="15528"/>
                </a:moveTo>
                <a:cubicBezTo>
                  <a:pt x="6423" y="15426"/>
                  <a:pt x="6301" y="15516"/>
                  <a:pt x="6226" y="15602"/>
                </a:cubicBezTo>
                <a:cubicBezTo>
                  <a:pt x="6226" y="15610"/>
                  <a:pt x="6226" y="15619"/>
                  <a:pt x="6226" y="15627"/>
                </a:cubicBezTo>
                <a:cubicBezTo>
                  <a:pt x="6310" y="15614"/>
                  <a:pt x="6351" y="15605"/>
                  <a:pt x="6424" y="15553"/>
                </a:cubicBezTo>
                <a:cubicBezTo>
                  <a:pt x="6479" y="15640"/>
                  <a:pt x="6499" y="15700"/>
                  <a:pt x="6499" y="1580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0040" y="4687920"/>
            <a:ext cx="847800" cy="965160"/>
          </a:xfrm>
          <a:custGeom>
            <a:avLst/>
            <a:gdLst/>
            <a:ahLst/>
            <a:rect l="l" t="t" r="r" b="b"/>
            <a:pathLst>
              <a:path w="2357" h="2680">
                <a:moveTo>
                  <a:pt x="8806" y="13047"/>
                </a:moveTo>
                <a:cubicBezTo>
                  <a:pt x="8776" y="13182"/>
                  <a:pt x="8738" y="13303"/>
                  <a:pt x="8731" y="13444"/>
                </a:cubicBezTo>
                <a:cubicBezTo>
                  <a:pt x="8730" y="13466"/>
                  <a:pt x="8731" y="13555"/>
                  <a:pt x="8731" y="13444"/>
                </a:cubicBezTo>
                <a:cubicBezTo>
                  <a:pt x="8708" y="13406"/>
                  <a:pt x="8691" y="13346"/>
                  <a:pt x="8706" y="13295"/>
                </a:cubicBezTo>
                <a:cubicBezTo>
                  <a:pt x="8727" y="13226"/>
                  <a:pt x="8719" y="13133"/>
                  <a:pt x="8756" y="13072"/>
                </a:cubicBezTo>
                <a:cubicBezTo>
                  <a:pt x="8810" y="12982"/>
                  <a:pt x="8936" y="13012"/>
                  <a:pt x="8979" y="13097"/>
                </a:cubicBezTo>
                <a:cubicBezTo>
                  <a:pt x="9096" y="13331"/>
                  <a:pt x="8973" y="13611"/>
                  <a:pt x="8781" y="13767"/>
                </a:cubicBezTo>
                <a:cubicBezTo>
                  <a:pt x="8633" y="13888"/>
                  <a:pt x="8581" y="13883"/>
                  <a:pt x="8458" y="13816"/>
                </a:cubicBezTo>
                <a:cubicBezTo>
                  <a:pt x="8492" y="13716"/>
                  <a:pt x="8600" y="13762"/>
                  <a:pt x="8706" y="13767"/>
                </a:cubicBezTo>
                <a:cubicBezTo>
                  <a:pt x="8821" y="13773"/>
                  <a:pt x="8938" y="13767"/>
                  <a:pt x="9054" y="13767"/>
                </a:cubicBezTo>
              </a:path>
              <a:path w="2357" h="2680">
                <a:moveTo>
                  <a:pt x="9277" y="13618"/>
                </a:moveTo>
                <a:cubicBezTo>
                  <a:pt x="9277" y="13643"/>
                  <a:pt x="9277" y="13651"/>
                  <a:pt x="9277" y="13667"/>
                </a:cubicBezTo>
              </a:path>
              <a:path w="2357" h="2680">
                <a:moveTo>
                  <a:pt x="9773" y="13047"/>
                </a:moveTo>
                <a:cubicBezTo>
                  <a:pt x="9722" y="13056"/>
                  <a:pt x="9677" y="13072"/>
                  <a:pt x="9624" y="13072"/>
                </a:cubicBezTo>
                <a:cubicBezTo>
                  <a:pt x="9619" y="13157"/>
                  <a:pt x="9608" y="13236"/>
                  <a:pt x="9599" y="13320"/>
                </a:cubicBezTo>
                <a:cubicBezTo>
                  <a:pt x="9665" y="13370"/>
                  <a:pt x="9693" y="13308"/>
                  <a:pt x="9773" y="13295"/>
                </a:cubicBezTo>
                <a:cubicBezTo>
                  <a:pt x="9929" y="13271"/>
                  <a:pt x="9907" y="13465"/>
                  <a:pt x="9823" y="13543"/>
                </a:cubicBezTo>
                <a:cubicBezTo>
                  <a:pt x="9719" y="13595"/>
                  <a:pt x="9680" y="13611"/>
                  <a:pt x="9599" y="13568"/>
                </a:cubicBezTo>
              </a:path>
              <a:path w="2357" h="2680">
                <a:moveTo>
                  <a:pt x="7888" y="14238"/>
                </a:moveTo>
                <a:cubicBezTo>
                  <a:pt x="7913" y="14363"/>
                  <a:pt x="7913" y="14481"/>
                  <a:pt x="7913" y="14610"/>
                </a:cubicBezTo>
              </a:path>
              <a:path w="2357" h="2680">
                <a:moveTo>
                  <a:pt x="8607" y="14163"/>
                </a:moveTo>
                <a:cubicBezTo>
                  <a:pt x="8607" y="14307"/>
                  <a:pt x="8555" y="14498"/>
                  <a:pt x="8582" y="14635"/>
                </a:cubicBezTo>
                <a:cubicBezTo>
                  <a:pt x="8590" y="14643"/>
                  <a:pt x="8599" y="14652"/>
                  <a:pt x="8607" y="14660"/>
                </a:cubicBezTo>
                <a:cubicBezTo>
                  <a:pt x="8797" y="14673"/>
                  <a:pt x="8840" y="14623"/>
                  <a:pt x="8880" y="14436"/>
                </a:cubicBezTo>
                <a:cubicBezTo>
                  <a:pt x="8789" y="14383"/>
                  <a:pt x="8766" y="14466"/>
                  <a:pt x="8731" y="14560"/>
                </a:cubicBezTo>
                <a:cubicBezTo>
                  <a:pt x="8731" y="14611"/>
                  <a:pt x="8756" y="14613"/>
                  <a:pt x="8830" y="14560"/>
                </a:cubicBezTo>
              </a:path>
              <a:path w="2357" h="2680">
                <a:moveTo>
                  <a:pt x="9153" y="14387"/>
                </a:moveTo>
                <a:cubicBezTo>
                  <a:pt x="9153" y="14412"/>
                  <a:pt x="9153" y="14420"/>
                  <a:pt x="9153" y="14436"/>
                </a:cubicBezTo>
              </a:path>
              <a:path w="2357" h="2680">
                <a:moveTo>
                  <a:pt x="9674" y="13965"/>
                </a:moveTo>
                <a:cubicBezTo>
                  <a:pt x="9634" y="14145"/>
                  <a:pt x="9584" y="14250"/>
                  <a:pt x="9723" y="14362"/>
                </a:cubicBezTo>
                <a:cubicBezTo>
                  <a:pt x="9820" y="14291"/>
                  <a:pt x="10034" y="14084"/>
                  <a:pt x="9798" y="13990"/>
                </a:cubicBezTo>
                <a:cubicBezTo>
                  <a:pt x="9757" y="13990"/>
                  <a:pt x="9715" y="13990"/>
                  <a:pt x="9674" y="13990"/>
                </a:cubicBezTo>
              </a:path>
              <a:path w="2357" h="2680">
                <a:moveTo>
                  <a:pt x="8012" y="14908"/>
                </a:moveTo>
                <a:cubicBezTo>
                  <a:pt x="8417" y="14815"/>
                  <a:pt x="8819" y="14716"/>
                  <a:pt x="9227" y="14635"/>
                </a:cubicBezTo>
                <a:cubicBezTo>
                  <a:pt x="9525" y="14576"/>
                  <a:pt x="9821" y="14514"/>
                  <a:pt x="10120" y="14461"/>
                </a:cubicBezTo>
              </a:path>
              <a:path w="2357" h="2680">
                <a:moveTo>
                  <a:pt x="10195" y="14833"/>
                </a:moveTo>
                <a:cubicBezTo>
                  <a:pt x="10127" y="14839"/>
                  <a:pt x="9949" y="14839"/>
                  <a:pt x="9897" y="14883"/>
                </a:cubicBezTo>
                <a:cubicBezTo>
                  <a:pt x="9885" y="14893"/>
                  <a:pt x="9851" y="15021"/>
                  <a:pt x="9847" y="15032"/>
                </a:cubicBezTo>
                <a:cubicBezTo>
                  <a:pt x="9893" y="15092"/>
                  <a:pt x="9884" y="15098"/>
                  <a:pt x="9996" y="15081"/>
                </a:cubicBezTo>
                <a:cubicBezTo>
                  <a:pt x="10122" y="15062"/>
                  <a:pt x="10310" y="15060"/>
                  <a:pt x="10220" y="15255"/>
                </a:cubicBezTo>
                <a:cubicBezTo>
                  <a:pt x="10146" y="15416"/>
                  <a:pt x="10033" y="15350"/>
                  <a:pt x="9897" y="15329"/>
                </a:cubicBezTo>
              </a:path>
              <a:path w="2357" h="2680">
                <a:moveTo>
                  <a:pt x="9004" y="15081"/>
                </a:moveTo>
                <a:cubicBezTo>
                  <a:pt x="8920" y="15102"/>
                  <a:pt x="8901" y="15104"/>
                  <a:pt x="8855" y="15131"/>
                </a:cubicBezTo>
                <a:cubicBezTo>
                  <a:pt x="8942" y="15272"/>
                  <a:pt x="9081" y="15362"/>
                  <a:pt x="9178" y="15503"/>
                </a:cubicBezTo>
                <a:cubicBezTo>
                  <a:pt x="9019" y="15608"/>
                  <a:pt x="8834" y="15658"/>
                  <a:pt x="8954" y="15379"/>
                </a:cubicBezTo>
                <a:cubicBezTo>
                  <a:pt x="8972" y="15336"/>
                  <a:pt x="9103" y="15116"/>
                  <a:pt x="9103" y="15106"/>
                </a:cubicBezTo>
              </a:path>
              <a:path w="2357" h="2680">
                <a:moveTo>
                  <a:pt x="7938" y="15528"/>
                </a:moveTo>
                <a:cubicBezTo>
                  <a:pt x="7917" y="15590"/>
                  <a:pt x="7938" y="15627"/>
                  <a:pt x="7962" y="15701"/>
                </a:cubicBezTo>
                <a:cubicBezTo>
                  <a:pt x="8103" y="15649"/>
                  <a:pt x="8114" y="15462"/>
                  <a:pt x="8235" y="15354"/>
                </a:cubicBezTo>
                <a:cubicBezTo>
                  <a:pt x="8323" y="15309"/>
                  <a:pt x="8344" y="15293"/>
                  <a:pt x="8409" y="1530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19120" y="562608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3944" y="15701"/>
                </a:moveTo>
                <a:cubicBezTo>
                  <a:pt x="3974" y="15672"/>
                  <a:pt x="4179" y="15575"/>
                  <a:pt x="4118" y="15701"/>
                </a:cubicBezTo>
                <a:cubicBezTo>
                  <a:pt x="4054" y="15786"/>
                  <a:pt x="4042" y="15806"/>
                  <a:pt x="3994" y="15850"/>
                </a:cubicBezTo>
                <a:cubicBezTo>
                  <a:pt x="4132" y="15827"/>
                  <a:pt x="4144" y="15827"/>
                  <a:pt x="4242" y="15925"/>
                </a:cubicBezTo>
                <a:cubicBezTo>
                  <a:pt x="4129" y="16011"/>
                  <a:pt x="4071" y="16069"/>
                  <a:pt x="3969" y="1594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60680" y="5589720"/>
            <a:ext cx="27000" cy="117360"/>
          </a:xfrm>
          <a:custGeom>
            <a:avLst/>
            <a:gdLst/>
            <a:ahLst/>
            <a:rect l="l" t="t" r="r" b="b"/>
            <a:pathLst>
              <a:path w="75" h="323">
                <a:moveTo>
                  <a:pt x="4614" y="15528"/>
                </a:moveTo>
                <a:cubicBezTo>
                  <a:pt x="4639" y="15635"/>
                  <a:pt x="4670" y="15744"/>
                  <a:pt x="4688" y="1585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2240" y="4268880"/>
            <a:ext cx="2401920" cy="1160280"/>
          </a:xfrm>
          <a:custGeom>
            <a:avLst/>
            <a:gdLst/>
            <a:ahLst/>
            <a:rect l="l" t="t" r="r" b="b"/>
            <a:pathLst>
              <a:path w="6673" h="3225">
                <a:moveTo>
                  <a:pt x="20687" y="11857"/>
                </a:moveTo>
                <a:cubicBezTo>
                  <a:pt x="20679" y="12070"/>
                  <a:pt x="20652" y="12269"/>
                  <a:pt x="20613" y="12477"/>
                </a:cubicBezTo>
                <a:cubicBezTo>
                  <a:pt x="20613" y="12485"/>
                  <a:pt x="20613" y="12494"/>
                  <a:pt x="20613" y="12502"/>
                </a:cubicBezTo>
              </a:path>
              <a:path w="6673" h="3225">
                <a:moveTo>
                  <a:pt x="23316" y="12477"/>
                </a:moveTo>
                <a:lnTo>
                  <a:pt x="23316" y="12477"/>
                </a:lnTo>
                <a:lnTo>
                  <a:pt x="23316" y="12477"/>
                </a:lnTo>
              </a:path>
              <a:path w="6673" h="3225">
                <a:moveTo>
                  <a:pt x="23316" y="12477"/>
                </a:moveTo>
                <a:lnTo>
                  <a:pt x="23316" y="12477"/>
                </a:lnTo>
              </a:path>
              <a:path w="6673" h="3225">
                <a:moveTo>
                  <a:pt x="23341" y="13097"/>
                </a:moveTo>
                <a:cubicBezTo>
                  <a:pt x="23341" y="13122"/>
                  <a:pt x="23341" y="13130"/>
                  <a:pt x="23366" y="13122"/>
                </a:cubicBezTo>
              </a:path>
              <a:path w="6673" h="3225">
                <a:moveTo>
                  <a:pt x="24457" y="13717"/>
                </a:moveTo>
                <a:cubicBezTo>
                  <a:pt x="24457" y="13689"/>
                  <a:pt x="24455" y="13678"/>
                  <a:pt x="24433" y="13667"/>
                </a:cubicBezTo>
              </a:path>
              <a:path w="6673" h="3225">
                <a:moveTo>
                  <a:pt x="17785" y="14957"/>
                </a:moveTo>
                <a:cubicBezTo>
                  <a:pt x="17876" y="14936"/>
                  <a:pt x="17953" y="14913"/>
                  <a:pt x="18033" y="14932"/>
                </a:cubicBezTo>
              </a:path>
              <a:path w="6673" h="3225">
                <a:moveTo>
                  <a:pt x="17959" y="15081"/>
                </a:moveTo>
                <a:lnTo>
                  <a:pt x="17959" y="15081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0720" y="5303880"/>
            <a:ext cx="795240" cy="214200"/>
          </a:xfrm>
          <a:custGeom>
            <a:avLst/>
            <a:gdLst/>
            <a:ahLst/>
            <a:rect l="l" t="t" r="r" b="b"/>
            <a:pathLst>
              <a:path w="2209" h="596">
                <a:moveTo>
                  <a:pt x="15751" y="14808"/>
                </a:moveTo>
                <a:cubicBezTo>
                  <a:pt x="15777" y="14947"/>
                  <a:pt x="15720" y="15181"/>
                  <a:pt x="15776" y="15304"/>
                </a:cubicBezTo>
                <a:cubicBezTo>
                  <a:pt x="15784" y="15296"/>
                  <a:pt x="15793" y="15288"/>
                  <a:pt x="15801" y="15280"/>
                </a:cubicBezTo>
              </a:path>
              <a:path w="2209" h="596">
                <a:moveTo>
                  <a:pt x="16098" y="14833"/>
                </a:moveTo>
                <a:cubicBezTo>
                  <a:pt x="16293" y="14833"/>
                  <a:pt x="16452" y="14907"/>
                  <a:pt x="16421" y="15156"/>
                </a:cubicBezTo>
                <a:cubicBezTo>
                  <a:pt x="16395" y="15360"/>
                  <a:pt x="16277" y="15310"/>
                  <a:pt x="16148" y="15280"/>
                </a:cubicBezTo>
                <a:cubicBezTo>
                  <a:pt x="16137" y="15167"/>
                  <a:pt x="16153" y="15070"/>
                  <a:pt x="16297" y="15131"/>
                </a:cubicBezTo>
                <a:cubicBezTo>
                  <a:pt x="16374" y="15164"/>
                  <a:pt x="16406" y="15263"/>
                  <a:pt x="16470" y="15230"/>
                </a:cubicBezTo>
              </a:path>
              <a:path w="2209" h="596">
                <a:moveTo>
                  <a:pt x="16669" y="15081"/>
                </a:moveTo>
                <a:cubicBezTo>
                  <a:pt x="16767" y="15048"/>
                  <a:pt x="16839" y="15032"/>
                  <a:pt x="16942" y="15032"/>
                </a:cubicBezTo>
              </a:path>
              <a:path w="2209" h="596">
                <a:moveTo>
                  <a:pt x="17338" y="14734"/>
                </a:moveTo>
                <a:cubicBezTo>
                  <a:pt x="17233" y="14755"/>
                  <a:pt x="17205" y="14750"/>
                  <a:pt x="17165" y="14808"/>
                </a:cubicBezTo>
                <a:cubicBezTo>
                  <a:pt x="17208" y="14948"/>
                  <a:pt x="17425" y="15068"/>
                  <a:pt x="17413" y="15230"/>
                </a:cubicBezTo>
                <a:cubicBezTo>
                  <a:pt x="17356" y="15287"/>
                  <a:pt x="17330" y="15303"/>
                  <a:pt x="17264" y="15280"/>
                </a:cubicBezTo>
                <a:cubicBezTo>
                  <a:pt x="17215" y="15121"/>
                  <a:pt x="17301" y="15027"/>
                  <a:pt x="17413" y="14883"/>
                </a:cubicBezTo>
                <a:cubicBezTo>
                  <a:pt x="17455" y="14829"/>
                  <a:pt x="17387" y="14796"/>
                  <a:pt x="17338" y="14784"/>
                </a:cubicBezTo>
              </a:path>
              <a:path w="2209" h="596">
                <a:moveTo>
                  <a:pt x="17810" y="15081"/>
                </a:moveTo>
                <a:cubicBezTo>
                  <a:pt x="17893" y="15081"/>
                  <a:pt x="17909" y="15081"/>
                  <a:pt x="17959" y="1508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6160" y="5259240"/>
            <a:ext cx="115920" cy="24156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8430" y="14759"/>
                </a:moveTo>
                <a:cubicBezTo>
                  <a:pt x="18430" y="14841"/>
                  <a:pt x="18418" y="14904"/>
                  <a:pt x="18405" y="14982"/>
                </a:cubicBezTo>
                <a:cubicBezTo>
                  <a:pt x="18535" y="14994"/>
                  <a:pt x="18602" y="14999"/>
                  <a:pt x="18728" y="14957"/>
                </a:cubicBezTo>
              </a:path>
              <a:path w="324" h="671">
                <a:moveTo>
                  <a:pt x="18628" y="14610"/>
                </a:moveTo>
                <a:cubicBezTo>
                  <a:pt x="18648" y="14835"/>
                  <a:pt x="18653" y="15054"/>
                  <a:pt x="18653" y="1528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1920" y="4340160"/>
            <a:ext cx="507960" cy="776520"/>
          </a:xfrm>
          <a:custGeom>
            <a:avLst/>
            <a:gdLst/>
            <a:ahLst/>
            <a:rect l="l" t="t" r="r" b="b"/>
            <a:pathLst>
              <a:path w="1415" h="2159">
                <a:moveTo>
                  <a:pt x="21084" y="13097"/>
                </a:moveTo>
                <a:cubicBezTo>
                  <a:pt x="21009" y="13272"/>
                  <a:pt x="20917" y="13381"/>
                  <a:pt x="20786" y="13519"/>
                </a:cubicBezTo>
                <a:cubicBezTo>
                  <a:pt x="20571" y="13746"/>
                  <a:pt x="20366" y="13951"/>
                  <a:pt x="20166" y="14188"/>
                </a:cubicBezTo>
                <a:cubicBezTo>
                  <a:pt x="20166" y="14213"/>
                  <a:pt x="20166" y="14221"/>
                  <a:pt x="20166" y="14188"/>
                </a:cubicBezTo>
              </a:path>
              <a:path w="1415" h="2159">
                <a:moveTo>
                  <a:pt x="20017" y="12154"/>
                </a:moveTo>
                <a:cubicBezTo>
                  <a:pt x="20050" y="12104"/>
                  <a:pt x="19978" y="12129"/>
                  <a:pt x="19918" y="12129"/>
                </a:cubicBezTo>
                <a:cubicBezTo>
                  <a:pt x="19615" y="12129"/>
                  <a:pt x="19663" y="12196"/>
                  <a:pt x="19819" y="12378"/>
                </a:cubicBezTo>
                <a:cubicBezTo>
                  <a:pt x="19844" y="12411"/>
                  <a:pt x="19868" y="12444"/>
                  <a:pt x="19893" y="12477"/>
                </a:cubicBezTo>
                <a:cubicBezTo>
                  <a:pt x="19869" y="12526"/>
                  <a:pt x="19860" y="12543"/>
                  <a:pt x="19819" y="12551"/>
                </a:cubicBezTo>
                <a:cubicBezTo>
                  <a:pt x="19615" y="12411"/>
                  <a:pt x="19732" y="12387"/>
                  <a:pt x="19869" y="12229"/>
                </a:cubicBezTo>
                <a:cubicBezTo>
                  <a:pt x="19906" y="12172"/>
                  <a:pt x="19923" y="12169"/>
                  <a:pt x="19918" y="12129"/>
                </a:cubicBezTo>
              </a:path>
              <a:path w="1415" h="2159">
                <a:moveTo>
                  <a:pt x="20389" y="12055"/>
                </a:moveTo>
                <a:cubicBezTo>
                  <a:pt x="20389" y="12124"/>
                  <a:pt x="20365" y="12238"/>
                  <a:pt x="20464" y="12254"/>
                </a:cubicBezTo>
                <a:cubicBezTo>
                  <a:pt x="20581" y="12254"/>
                  <a:pt x="20615" y="12256"/>
                  <a:pt x="20687" y="122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02720" y="4170240"/>
            <a:ext cx="857160" cy="1133640"/>
          </a:xfrm>
          <a:custGeom>
            <a:avLst/>
            <a:gdLst/>
            <a:ahLst/>
            <a:rect l="l" t="t" r="r" b="b"/>
            <a:pathLst>
              <a:path w="2382" h="3151">
                <a:moveTo>
                  <a:pt x="22473" y="12129"/>
                </a:moveTo>
                <a:cubicBezTo>
                  <a:pt x="22473" y="12121"/>
                  <a:pt x="22473" y="12113"/>
                  <a:pt x="22473" y="12105"/>
                </a:cubicBezTo>
                <a:cubicBezTo>
                  <a:pt x="22534" y="12255"/>
                  <a:pt x="22513" y="12389"/>
                  <a:pt x="22498" y="12551"/>
                </a:cubicBezTo>
                <a:cubicBezTo>
                  <a:pt x="22498" y="12543"/>
                  <a:pt x="22498" y="12534"/>
                  <a:pt x="22498" y="12526"/>
                </a:cubicBezTo>
              </a:path>
              <a:path w="2382" h="3151">
                <a:moveTo>
                  <a:pt x="22796" y="12154"/>
                </a:moveTo>
                <a:cubicBezTo>
                  <a:pt x="22929" y="12074"/>
                  <a:pt x="23081" y="12090"/>
                  <a:pt x="23068" y="12303"/>
                </a:cubicBezTo>
                <a:cubicBezTo>
                  <a:pt x="23054" y="12540"/>
                  <a:pt x="22927" y="12585"/>
                  <a:pt x="22771" y="12477"/>
                </a:cubicBezTo>
                <a:cubicBezTo>
                  <a:pt x="22842" y="12362"/>
                  <a:pt x="22914" y="12344"/>
                  <a:pt x="22994" y="12477"/>
                </a:cubicBezTo>
                <a:cubicBezTo>
                  <a:pt x="23013" y="12534"/>
                  <a:pt x="23004" y="12559"/>
                  <a:pt x="23044" y="12551"/>
                </a:cubicBezTo>
              </a:path>
              <a:path w="2382" h="3151">
                <a:moveTo>
                  <a:pt x="23589" y="12030"/>
                </a:moveTo>
                <a:cubicBezTo>
                  <a:pt x="23645" y="12030"/>
                  <a:pt x="23791" y="11994"/>
                  <a:pt x="23812" y="12055"/>
                </a:cubicBezTo>
                <a:cubicBezTo>
                  <a:pt x="23843" y="12146"/>
                  <a:pt x="23660" y="12133"/>
                  <a:pt x="23664" y="12229"/>
                </a:cubicBezTo>
                <a:cubicBezTo>
                  <a:pt x="23763" y="12229"/>
                  <a:pt x="23764" y="12234"/>
                  <a:pt x="23837" y="12278"/>
                </a:cubicBezTo>
                <a:cubicBezTo>
                  <a:pt x="23831" y="12350"/>
                  <a:pt x="23813" y="12500"/>
                  <a:pt x="23688" y="12452"/>
                </a:cubicBezTo>
                <a:cubicBezTo>
                  <a:pt x="23598" y="12385"/>
                  <a:pt x="23559" y="12369"/>
                  <a:pt x="23639" y="12303"/>
                </a:cubicBezTo>
              </a:path>
              <a:path w="2382" h="3151">
                <a:moveTo>
                  <a:pt x="24259" y="12005"/>
                </a:moveTo>
                <a:cubicBezTo>
                  <a:pt x="24202" y="11978"/>
                  <a:pt x="24179" y="11972"/>
                  <a:pt x="24135" y="12005"/>
                </a:cubicBezTo>
                <a:cubicBezTo>
                  <a:pt x="24149" y="12128"/>
                  <a:pt x="24233" y="12212"/>
                  <a:pt x="24259" y="12328"/>
                </a:cubicBezTo>
                <a:cubicBezTo>
                  <a:pt x="24292" y="12475"/>
                  <a:pt x="24213" y="12483"/>
                  <a:pt x="24110" y="12526"/>
                </a:cubicBezTo>
                <a:cubicBezTo>
                  <a:pt x="24110" y="12416"/>
                  <a:pt x="24247" y="12254"/>
                  <a:pt x="24309" y="12129"/>
                </a:cubicBezTo>
                <a:cubicBezTo>
                  <a:pt x="24361" y="12025"/>
                  <a:pt x="24312" y="12047"/>
                  <a:pt x="24234" y="12055"/>
                </a:cubicBezTo>
              </a:path>
              <a:path w="2382" h="3151">
                <a:moveTo>
                  <a:pt x="21952" y="13047"/>
                </a:moveTo>
                <a:cubicBezTo>
                  <a:pt x="22105" y="13047"/>
                  <a:pt x="22248" y="13040"/>
                  <a:pt x="22399" y="13022"/>
                </a:cubicBezTo>
              </a:path>
              <a:path w="2382" h="3151">
                <a:moveTo>
                  <a:pt x="23292" y="12874"/>
                </a:moveTo>
                <a:cubicBezTo>
                  <a:pt x="23170" y="12863"/>
                  <a:pt x="23107" y="12849"/>
                  <a:pt x="22994" y="12898"/>
                </a:cubicBezTo>
                <a:cubicBezTo>
                  <a:pt x="22983" y="12998"/>
                  <a:pt x="23084" y="13061"/>
                  <a:pt x="23068" y="13171"/>
                </a:cubicBezTo>
                <a:cubicBezTo>
                  <a:pt x="23051" y="13292"/>
                  <a:pt x="22957" y="13203"/>
                  <a:pt x="22920" y="13171"/>
                </a:cubicBezTo>
                <a:cubicBezTo>
                  <a:pt x="23001" y="13063"/>
                  <a:pt x="23093" y="12988"/>
                  <a:pt x="23192" y="12898"/>
                </a:cubicBezTo>
              </a:path>
              <a:path w="2382" h="3151">
                <a:moveTo>
                  <a:pt x="22746" y="12129"/>
                </a:moveTo>
                <a:cubicBezTo>
                  <a:pt x="22870" y="12179"/>
                  <a:pt x="22905" y="12364"/>
                  <a:pt x="22969" y="12477"/>
                </a:cubicBezTo>
                <a:cubicBezTo>
                  <a:pt x="23007" y="12533"/>
                  <a:pt x="23024" y="12536"/>
                  <a:pt x="23019" y="12576"/>
                </a:cubicBezTo>
              </a:path>
              <a:path w="2382" h="3151">
                <a:moveTo>
                  <a:pt x="23044" y="11633"/>
                </a:moveTo>
                <a:cubicBezTo>
                  <a:pt x="23044" y="11710"/>
                  <a:pt x="23024" y="11781"/>
                  <a:pt x="23019" y="11857"/>
                </a:cubicBezTo>
                <a:cubicBezTo>
                  <a:pt x="23015" y="11911"/>
                  <a:pt x="23067" y="11868"/>
                  <a:pt x="23093" y="11857"/>
                </a:cubicBezTo>
              </a:path>
              <a:path w="2382" h="3151">
                <a:moveTo>
                  <a:pt x="23515" y="11782"/>
                </a:moveTo>
                <a:cubicBezTo>
                  <a:pt x="23501" y="11867"/>
                  <a:pt x="23490" y="11941"/>
                  <a:pt x="23490" y="12030"/>
                </a:cubicBezTo>
                <a:cubicBezTo>
                  <a:pt x="23490" y="12038"/>
                  <a:pt x="23490" y="12047"/>
                  <a:pt x="23490" y="12055"/>
                </a:cubicBezTo>
              </a:path>
              <a:path w="2382" h="3151">
                <a:moveTo>
                  <a:pt x="23986" y="13915"/>
                </a:moveTo>
                <a:cubicBezTo>
                  <a:pt x="24038" y="13915"/>
                  <a:pt x="24069" y="13893"/>
                  <a:pt x="24061" y="13816"/>
                </a:cubicBezTo>
                <a:cubicBezTo>
                  <a:pt x="24049" y="13702"/>
                  <a:pt x="23894" y="13671"/>
                  <a:pt x="23812" y="13717"/>
                </a:cubicBezTo>
                <a:cubicBezTo>
                  <a:pt x="23708" y="13776"/>
                  <a:pt x="23680" y="13896"/>
                  <a:pt x="23788" y="13965"/>
                </a:cubicBezTo>
                <a:cubicBezTo>
                  <a:pt x="23925" y="14053"/>
                  <a:pt x="23960" y="13874"/>
                  <a:pt x="24011" y="13791"/>
                </a:cubicBezTo>
                <a:cubicBezTo>
                  <a:pt x="24019" y="13783"/>
                  <a:pt x="24028" y="13775"/>
                  <a:pt x="24036" y="13767"/>
                </a:cubicBezTo>
                <a:cubicBezTo>
                  <a:pt x="24021" y="13902"/>
                  <a:pt x="24011" y="14027"/>
                  <a:pt x="24011" y="14163"/>
                </a:cubicBezTo>
                <a:cubicBezTo>
                  <a:pt x="24011" y="14188"/>
                  <a:pt x="24011" y="14196"/>
                  <a:pt x="24011" y="14163"/>
                </a:cubicBezTo>
              </a:path>
              <a:path w="2382" h="3151">
                <a:moveTo>
                  <a:pt x="23564" y="14213"/>
                </a:moveTo>
                <a:cubicBezTo>
                  <a:pt x="23533" y="14266"/>
                  <a:pt x="23544" y="14320"/>
                  <a:pt x="23564" y="14238"/>
                </a:cubicBezTo>
              </a:path>
              <a:path w="2382" h="3151">
                <a:moveTo>
                  <a:pt x="22324" y="12179"/>
                </a:moveTo>
                <a:cubicBezTo>
                  <a:pt x="22460" y="12276"/>
                  <a:pt x="22533" y="12432"/>
                  <a:pt x="22622" y="12576"/>
                </a:cubicBezTo>
                <a:cubicBezTo>
                  <a:pt x="22630" y="12584"/>
                  <a:pt x="22639" y="12593"/>
                  <a:pt x="22647" y="12601"/>
                </a:cubicBezTo>
              </a:path>
              <a:path w="2382" h="3151">
                <a:moveTo>
                  <a:pt x="22275" y="11757"/>
                </a:moveTo>
                <a:cubicBezTo>
                  <a:pt x="22238" y="11850"/>
                  <a:pt x="22159" y="11936"/>
                  <a:pt x="22225" y="12055"/>
                </a:cubicBezTo>
                <a:cubicBezTo>
                  <a:pt x="22307" y="12205"/>
                  <a:pt x="22456" y="11939"/>
                  <a:pt x="22448" y="11857"/>
                </a:cubicBezTo>
                <a:cubicBezTo>
                  <a:pt x="22444" y="11811"/>
                  <a:pt x="22374" y="11811"/>
                  <a:pt x="22349" y="11807"/>
                </a:cubicBezTo>
              </a:path>
              <a:path w="2382" h="3151">
                <a:moveTo>
                  <a:pt x="22845" y="11609"/>
                </a:moveTo>
                <a:cubicBezTo>
                  <a:pt x="22837" y="11601"/>
                  <a:pt x="22828" y="11592"/>
                  <a:pt x="22820" y="11584"/>
                </a:cubicBezTo>
                <a:cubicBezTo>
                  <a:pt x="22820" y="11667"/>
                  <a:pt x="22790" y="11727"/>
                  <a:pt x="22771" y="11807"/>
                </a:cubicBezTo>
                <a:cubicBezTo>
                  <a:pt x="22771" y="11815"/>
                  <a:pt x="22771" y="11824"/>
                  <a:pt x="22771" y="11832"/>
                </a:cubicBezTo>
              </a:path>
              <a:path w="2382" h="3151">
                <a:moveTo>
                  <a:pt x="23118" y="13866"/>
                </a:moveTo>
                <a:cubicBezTo>
                  <a:pt x="23118" y="13793"/>
                  <a:pt x="23191" y="13742"/>
                  <a:pt x="23267" y="13742"/>
                </a:cubicBezTo>
                <a:cubicBezTo>
                  <a:pt x="23275" y="13750"/>
                  <a:pt x="23284" y="13759"/>
                  <a:pt x="23292" y="13767"/>
                </a:cubicBezTo>
                <a:cubicBezTo>
                  <a:pt x="23304" y="13884"/>
                  <a:pt x="23250" y="13905"/>
                  <a:pt x="23143" y="13965"/>
                </a:cubicBezTo>
                <a:cubicBezTo>
                  <a:pt x="23194" y="13958"/>
                  <a:pt x="23341" y="13902"/>
                  <a:pt x="23341" y="14015"/>
                </a:cubicBezTo>
                <a:cubicBezTo>
                  <a:pt x="23341" y="14117"/>
                  <a:pt x="23195" y="14214"/>
                  <a:pt x="23093" y="14188"/>
                </a:cubicBezTo>
                <a:cubicBezTo>
                  <a:pt x="23093" y="14180"/>
                  <a:pt x="23093" y="14171"/>
                  <a:pt x="23093" y="14163"/>
                </a:cubicBezTo>
              </a:path>
              <a:path w="2382" h="3151">
                <a:moveTo>
                  <a:pt x="22473" y="14536"/>
                </a:moveTo>
                <a:cubicBezTo>
                  <a:pt x="22486" y="14601"/>
                  <a:pt x="22513" y="14665"/>
                  <a:pt x="22523" y="14734"/>
                </a:cubicBezTo>
                <a:cubicBezTo>
                  <a:pt x="22643" y="14653"/>
                  <a:pt x="22724" y="14483"/>
                  <a:pt x="22820" y="14362"/>
                </a:cubicBezTo>
                <a:cubicBezTo>
                  <a:pt x="22828" y="14354"/>
                  <a:pt x="22837" y="14345"/>
                  <a:pt x="22845" y="1433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62920" y="4606920"/>
            <a:ext cx="750960" cy="484200"/>
          </a:xfrm>
          <a:custGeom>
            <a:avLst/>
            <a:gdLst/>
            <a:ahLst/>
            <a:rect l="l" t="t" r="r" b="b"/>
            <a:pathLst>
              <a:path w="2084" h="1341">
                <a:moveTo>
                  <a:pt x="23664" y="12874"/>
                </a:moveTo>
                <a:cubicBezTo>
                  <a:pt x="23653" y="12906"/>
                  <a:pt x="23596" y="12951"/>
                  <a:pt x="23688" y="12973"/>
                </a:cubicBezTo>
                <a:cubicBezTo>
                  <a:pt x="23763" y="12973"/>
                  <a:pt x="23787" y="12973"/>
                  <a:pt x="23837" y="12973"/>
                </a:cubicBezTo>
              </a:path>
              <a:path w="2084" h="1341">
                <a:moveTo>
                  <a:pt x="23837" y="12799"/>
                </a:moveTo>
                <a:cubicBezTo>
                  <a:pt x="23827" y="12933"/>
                  <a:pt x="23757" y="13091"/>
                  <a:pt x="23763" y="13221"/>
                </a:cubicBezTo>
                <a:cubicBezTo>
                  <a:pt x="23771" y="13229"/>
                  <a:pt x="23780" y="13238"/>
                  <a:pt x="23788" y="13246"/>
                </a:cubicBezTo>
              </a:path>
              <a:path w="2084" h="1341">
                <a:moveTo>
                  <a:pt x="22523" y="13494"/>
                </a:moveTo>
                <a:cubicBezTo>
                  <a:pt x="22490" y="13502"/>
                  <a:pt x="22456" y="13511"/>
                  <a:pt x="22423" y="13519"/>
                </a:cubicBezTo>
                <a:cubicBezTo>
                  <a:pt x="22749" y="13519"/>
                  <a:pt x="23067" y="13479"/>
                  <a:pt x="23391" y="13444"/>
                </a:cubicBezTo>
                <a:cubicBezTo>
                  <a:pt x="23670" y="13414"/>
                  <a:pt x="23960" y="13391"/>
                  <a:pt x="24234" y="13345"/>
                </a:cubicBezTo>
              </a:path>
              <a:path w="2084" h="1341">
                <a:moveTo>
                  <a:pt x="24209" y="12898"/>
                </a:moveTo>
                <a:cubicBezTo>
                  <a:pt x="24159" y="12918"/>
                  <a:pt x="24127" y="12956"/>
                  <a:pt x="24085" y="12998"/>
                </a:cubicBezTo>
                <a:cubicBezTo>
                  <a:pt x="24102" y="13008"/>
                  <a:pt x="24357" y="13105"/>
                  <a:pt x="24259" y="12973"/>
                </a:cubicBezTo>
                <a:cubicBezTo>
                  <a:pt x="24184" y="12916"/>
                  <a:pt x="24172" y="12912"/>
                  <a:pt x="24135" y="12874"/>
                </a:cubicBezTo>
              </a:path>
              <a:path w="2084" h="1341">
                <a:moveTo>
                  <a:pt x="22572" y="12923"/>
                </a:moveTo>
                <a:cubicBezTo>
                  <a:pt x="22454" y="12957"/>
                  <a:pt x="22424" y="12984"/>
                  <a:pt x="22399" y="13097"/>
                </a:cubicBezTo>
                <a:cubicBezTo>
                  <a:pt x="22452" y="13112"/>
                  <a:pt x="22685" y="13171"/>
                  <a:pt x="22647" y="13022"/>
                </a:cubicBezTo>
                <a:cubicBezTo>
                  <a:pt x="22608" y="12984"/>
                  <a:pt x="22591" y="12982"/>
                  <a:pt x="22597" y="12948"/>
                </a:cubicBezTo>
              </a:path>
              <a:path w="2084" h="1341">
                <a:moveTo>
                  <a:pt x="24234" y="13667"/>
                </a:moveTo>
                <a:cubicBezTo>
                  <a:pt x="24274" y="13654"/>
                  <a:pt x="24244" y="13656"/>
                  <a:pt x="24284" y="13643"/>
                </a:cubicBezTo>
                <a:cubicBezTo>
                  <a:pt x="24252" y="13653"/>
                  <a:pt x="24192" y="13685"/>
                  <a:pt x="24209" y="13742"/>
                </a:cubicBezTo>
                <a:cubicBezTo>
                  <a:pt x="24244" y="13863"/>
                  <a:pt x="24390" y="13868"/>
                  <a:pt x="24457" y="13965"/>
                </a:cubicBezTo>
                <a:cubicBezTo>
                  <a:pt x="24514" y="14048"/>
                  <a:pt x="24497" y="14120"/>
                  <a:pt x="24408" y="14139"/>
                </a:cubicBezTo>
                <a:cubicBezTo>
                  <a:pt x="24391" y="14139"/>
                  <a:pt x="24375" y="14139"/>
                  <a:pt x="24358" y="14139"/>
                </a:cubicBezTo>
                <a:cubicBezTo>
                  <a:pt x="24300" y="14004"/>
                  <a:pt x="24375" y="14000"/>
                  <a:pt x="24433" y="13891"/>
                </a:cubicBezTo>
                <a:cubicBezTo>
                  <a:pt x="24467" y="13828"/>
                  <a:pt x="24482" y="13761"/>
                  <a:pt x="24482" y="13692"/>
                </a:cubicBezTo>
                <a:cubicBezTo>
                  <a:pt x="24482" y="13613"/>
                  <a:pt x="24463" y="13645"/>
                  <a:pt x="24408" y="1369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42120" y="444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117" y="12353"/>
                </a:moveTo>
                <a:lnTo>
                  <a:pt x="20117" y="12353"/>
                </a:lnTo>
                <a:lnTo>
                  <a:pt x="20117" y="12353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Objective :  Students will </a:t>
            </a:r>
            <a:r>
              <a:rPr b="0" i="1" lang="en-US" sz="1600" spc="-1" strike="noStrike">
                <a:solidFill>
                  <a:srgbClr val="f8f8f8"/>
                </a:solidFill>
                <a:latin typeface="Verdana"/>
              </a:rPr>
              <a:t>accurately add and subtract decimals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Madelyn adds the following three numbers:  5.41,  12,  9.2  and arrives at an answer of 14.73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Part A: Is this answer correct? </a:t>
            </a:r>
            <a:r>
              <a:rPr b="0" lang="en-US" sz="24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Part B: Use what you know about decimal addition to explain how you came to your conclusion?  Use words and/or numbers in your explanation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84788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135" y="12229"/>
                </a:moveTo>
                <a:lnTo>
                  <a:pt x="5135" y="12229"/>
                </a:lnTo>
                <a:lnTo>
                  <a:pt x="5135" y="12229"/>
                </a:lnTo>
              </a:path>
              <a:path w="1" h="1">
                <a:moveTo>
                  <a:pt x="5135" y="12229"/>
                </a:moveTo>
                <a:lnTo>
                  <a:pt x="5135" y="1222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12920" y="4680000"/>
            <a:ext cx="714240" cy="411120"/>
          </a:xfrm>
          <a:custGeom>
            <a:avLst/>
            <a:gdLst/>
            <a:ahLst/>
            <a:rect l="l" t="t" r="r" b="b"/>
            <a:pathLst>
              <a:path w="1986" h="1142">
                <a:moveTo>
                  <a:pt x="3646" y="13295"/>
                </a:moveTo>
                <a:cubicBezTo>
                  <a:pt x="3774" y="13240"/>
                  <a:pt x="3810" y="13213"/>
                  <a:pt x="3944" y="13196"/>
                </a:cubicBezTo>
              </a:path>
              <a:path w="1986" h="1142">
                <a:moveTo>
                  <a:pt x="4366" y="12998"/>
                </a:moveTo>
                <a:cubicBezTo>
                  <a:pt x="4381" y="13048"/>
                  <a:pt x="4459" y="13445"/>
                  <a:pt x="4490" y="13320"/>
                </a:cubicBezTo>
              </a:path>
              <a:path w="1986" h="1142">
                <a:moveTo>
                  <a:pt x="5631" y="14139"/>
                </a:moveTo>
                <a:lnTo>
                  <a:pt x="5631" y="14139"/>
                </a:lnTo>
                <a:lnTo>
                  <a:pt x="5631" y="14139"/>
                </a:lnTo>
                <a:lnTo>
                  <a:pt x="5631" y="14139"/>
                </a:lnTo>
              </a:path>
              <a:path w="1986" h="1142">
                <a:moveTo>
                  <a:pt x="5631" y="14139"/>
                </a:moveTo>
                <a:lnTo>
                  <a:pt x="5631" y="1413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56200" y="2160720"/>
            <a:ext cx="482760" cy="21420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16545" y="6201"/>
                </a:moveTo>
                <a:cubicBezTo>
                  <a:pt x="16599" y="6334"/>
                  <a:pt x="16633" y="6454"/>
                  <a:pt x="16644" y="6598"/>
                </a:cubicBezTo>
                <a:cubicBezTo>
                  <a:pt x="16629" y="6439"/>
                  <a:pt x="16581" y="6259"/>
                  <a:pt x="16644" y="6102"/>
                </a:cubicBezTo>
                <a:cubicBezTo>
                  <a:pt x="16742" y="5858"/>
                  <a:pt x="17037" y="6058"/>
                  <a:pt x="17115" y="6201"/>
                </a:cubicBezTo>
                <a:cubicBezTo>
                  <a:pt x="17175" y="6311"/>
                  <a:pt x="17190" y="6473"/>
                  <a:pt x="17190" y="6598"/>
                </a:cubicBezTo>
              </a:path>
              <a:path w="1340" h="596">
                <a:moveTo>
                  <a:pt x="17611" y="6028"/>
                </a:moveTo>
                <a:cubicBezTo>
                  <a:pt x="17457" y="6097"/>
                  <a:pt x="17346" y="6311"/>
                  <a:pt x="17388" y="6499"/>
                </a:cubicBezTo>
                <a:cubicBezTo>
                  <a:pt x="17413" y="6532"/>
                  <a:pt x="17437" y="6565"/>
                  <a:pt x="17462" y="6598"/>
                </a:cubicBezTo>
                <a:cubicBezTo>
                  <a:pt x="17674" y="6543"/>
                  <a:pt x="17969" y="6466"/>
                  <a:pt x="17835" y="6176"/>
                </a:cubicBezTo>
                <a:cubicBezTo>
                  <a:pt x="17792" y="6082"/>
                  <a:pt x="17717" y="6084"/>
                  <a:pt x="17636" y="607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63960" y="4170240"/>
            <a:ext cx="322200" cy="1928880"/>
          </a:xfrm>
          <a:custGeom>
            <a:avLst/>
            <a:gdLst/>
            <a:ahLst/>
            <a:rect l="l" t="t" r="r" b="b"/>
            <a:pathLst>
              <a:path w="894" h="5359">
                <a:moveTo>
                  <a:pt x="11261" y="11584"/>
                </a:moveTo>
                <a:cubicBezTo>
                  <a:pt x="11160" y="11833"/>
                  <a:pt x="10931" y="12140"/>
                  <a:pt x="11013" y="12427"/>
                </a:cubicBezTo>
                <a:cubicBezTo>
                  <a:pt x="11128" y="12832"/>
                  <a:pt x="11629" y="12935"/>
                  <a:pt x="11708" y="13370"/>
                </a:cubicBezTo>
                <a:cubicBezTo>
                  <a:pt x="11797" y="13862"/>
                  <a:pt x="11312" y="14248"/>
                  <a:pt x="11609" y="14734"/>
                </a:cubicBezTo>
                <a:cubicBezTo>
                  <a:pt x="11868" y="15158"/>
                  <a:pt x="11951" y="15212"/>
                  <a:pt x="11782" y="15726"/>
                </a:cubicBezTo>
                <a:cubicBezTo>
                  <a:pt x="11666" y="16078"/>
                  <a:pt x="11668" y="16202"/>
                  <a:pt x="11757" y="16545"/>
                </a:cubicBezTo>
                <a:cubicBezTo>
                  <a:pt x="11786" y="16658"/>
                  <a:pt x="11654" y="16764"/>
                  <a:pt x="11708" y="16867"/>
                </a:cubicBezTo>
                <a:cubicBezTo>
                  <a:pt x="11776" y="16996"/>
                  <a:pt x="11649" y="16878"/>
                  <a:pt x="11807" y="1689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45040" y="4010040"/>
            <a:ext cx="1251000" cy="214200"/>
          </a:xfrm>
          <a:custGeom>
            <a:avLst/>
            <a:gdLst/>
            <a:ahLst/>
            <a:rect l="l" t="t" r="r" b="b"/>
            <a:pathLst>
              <a:path w="3473" h="597">
                <a:moveTo>
                  <a:pt x="14163" y="11286"/>
                </a:moveTo>
                <a:cubicBezTo>
                  <a:pt x="14249" y="11431"/>
                  <a:pt x="14346" y="11569"/>
                  <a:pt x="14387" y="11733"/>
                </a:cubicBezTo>
              </a:path>
              <a:path w="3473" h="597">
                <a:moveTo>
                  <a:pt x="14387" y="11733"/>
                </a:moveTo>
                <a:lnTo>
                  <a:pt x="14387" y="11733"/>
                </a:lnTo>
              </a:path>
              <a:path w="3473" h="597">
                <a:moveTo>
                  <a:pt x="14015" y="11485"/>
                </a:moveTo>
                <a:cubicBezTo>
                  <a:pt x="14164" y="11462"/>
                  <a:pt x="14313" y="11440"/>
                  <a:pt x="14461" y="11410"/>
                </a:cubicBezTo>
              </a:path>
              <a:path w="3473" h="597">
                <a:moveTo>
                  <a:pt x="17338" y="11137"/>
                </a:moveTo>
                <a:cubicBezTo>
                  <a:pt x="17438" y="11276"/>
                  <a:pt x="17420" y="11483"/>
                  <a:pt x="17462" y="11658"/>
                </a:cubicBezTo>
                <a:cubicBezTo>
                  <a:pt x="17470" y="11666"/>
                  <a:pt x="17479" y="11675"/>
                  <a:pt x="17487" y="1168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9080" y="4062240"/>
            <a:ext cx="714600" cy="2239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2303" y="11509"/>
                </a:moveTo>
                <a:cubicBezTo>
                  <a:pt x="12303" y="11401"/>
                  <a:pt x="12301" y="11678"/>
                  <a:pt x="12328" y="11782"/>
                </a:cubicBezTo>
                <a:cubicBezTo>
                  <a:pt x="12345" y="11823"/>
                  <a:pt x="12361" y="11865"/>
                  <a:pt x="12378" y="11906"/>
                </a:cubicBezTo>
                <a:cubicBezTo>
                  <a:pt x="12568" y="11839"/>
                  <a:pt x="12627" y="11824"/>
                  <a:pt x="12675" y="11609"/>
                </a:cubicBezTo>
                <a:cubicBezTo>
                  <a:pt x="12701" y="11773"/>
                  <a:pt x="12793" y="11886"/>
                  <a:pt x="12973" y="11757"/>
                </a:cubicBezTo>
                <a:cubicBezTo>
                  <a:pt x="13196" y="11598"/>
                  <a:pt x="12894" y="11477"/>
                  <a:pt x="12774" y="11435"/>
                </a:cubicBezTo>
              </a:path>
              <a:path w="1986" h="621">
                <a:moveTo>
                  <a:pt x="13097" y="11286"/>
                </a:moveTo>
                <a:cubicBezTo>
                  <a:pt x="13137" y="11443"/>
                  <a:pt x="13179" y="11600"/>
                  <a:pt x="13221" y="11757"/>
                </a:cubicBezTo>
                <a:cubicBezTo>
                  <a:pt x="13209" y="11689"/>
                  <a:pt x="13163" y="11490"/>
                  <a:pt x="13271" y="11460"/>
                </a:cubicBezTo>
                <a:cubicBezTo>
                  <a:pt x="13519" y="11391"/>
                  <a:pt x="13447" y="11730"/>
                  <a:pt x="13519" y="11757"/>
                </a:cubicBezTo>
                <a:cubicBezTo>
                  <a:pt x="13535" y="11749"/>
                  <a:pt x="13552" y="11741"/>
                  <a:pt x="13568" y="11733"/>
                </a:cubicBezTo>
              </a:path>
              <a:path w="1986" h="621">
                <a:moveTo>
                  <a:pt x="13866" y="11534"/>
                </a:moveTo>
                <a:cubicBezTo>
                  <a:pt x="13778" y="11495"/>
                  <a:pt x="13542" y="11594"/>
                  <a:pt x="13593" y="11757"/>
                </a:cubicBezTo>
                <a:cubicBezTo>
                  <a:pt x="13637" y="11898"/>
                  <a:pt x="13868" y="11699"/>
                  <a:pt x="13891" y="11683"/>
                </a:cubicBezTo>
                <a:cubicBezTo>
                  <a:pt x="13891" y="11675"/>
                  <a:pt x="13891" y="11666"/>
                  <a:pt x="13891" y="11658"/>
                </a:cubicBezTo>
                <a:cubicBezTo>
                  <a:pt x="13807" y="11783"/>
                  <a:pt x="14076" y="11840"/>
                  <a:pt x="14188" y="11782"/>
                </a:cubicBezTo>
                <a:cubicBezTo>
                  <a:pt x="14291" y="11654"/>
                  <a:pt x="14324" y="11608"/>
                  <a:pt x="14263" y="1148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91080" y="4044960"/>
            <a:ext cx="1189080" cy="349200"/>
          </a:xfrm>
          <a:custGeom>
            <a:avLst/>
            <a:gdLst/>
            <a:ahLst/>
            <a:rect l="l" t="t" r="r" b="b"/>
            <a:pathLst>
              <a:path w="3300" h="968">
                <a:moveTo>
                  <a:pt x="15280" y="11435"/>
                </a:moveTo>
                <a:cubicBezTo>
                  <a:pt x="15262" y="11580"/>
                  <a:pt x="15288" y="11708"/>
                  <a:pt x="15304" y="11857"/>
                </a:cubicBezTo>
                <a:cubicBezTo>
                  <a:pt x="15285" y="11741"/>
                  <a:pt x="15232" y="11544"/>
                  <a:pt x="15304" y="11435"/>
                </a:cubicBezTo>
                <a:cubicBezTo>
                  <a:pt x="15471" y="11181"/>
                  <a:pt x="15677" y="11692"/>
                  <a:pt x="15701" y="11782"/>
                </a:cubicBezTo>
                <a:cubicBezTo>
                  <a:pt x="15701" y="11790"/>
                  <a:pt x="15701" y="11799"/>
                  <a:pt x="15701" y="11807"/>
                </a:cubicBezTo>
                <a:cubicBezTo>
                  <a:pt x="15587" y="11621"/>
                  <a:pt x="15628" y="11522"/>
                  <a:pt x="15701" y="11336"/>
                </a:cubicBezTo>
                <a:cubicBezTo>
                  <a:pt x="15905" y="11363"/>
                  <a:pt x="16059" y="11546"/>
                  <a:pt x="16098" y="11782"/>
                </a:cubicBezTo>
                <a:cubicBezTo>
                  <a:pt x="16078" y="11823"/>
                  <a:pt x="16069" y="11850"/>
                  <a:pt x="16073" y="11807"/>
                </a:cubicBezTo>
              </a:path>
              <a:path w="3300" h="968">
                <a:moveTo>
                  <a:pt x="16470" y="11658"/>
                </a:moveTo>
                <a:cubicBezTo>
                  <a:pt x="16462" y="11625"/>
                  <a:pt x="16454" y="11592"/>
                  <a:pt x="16446" y="11559"/>
                </a:cubicBezTo>
                <a:cubicBezTo>
                  <a:pt x="16254" y="11542"/>
                  <a:pt x="16214" y="11634"/>
                  <a:pt x="16173" y="11807"/>
                </a:cubicBezTo>
                <a:cubicBezTo>
                  <a:pt x="16346" y="11870"/>
                  <a:pt x="16403" y="11844"/>
                  <a:pt x="16446" y="11658"/>
                </a:cubicBezTo>
                <a:cubicBezTo>
                  <a:pt x="16474" y="11802"/>
                  <a:pt x="16546" y="11787"/>
                  <a:pt x="16669" y="11807"/>
                </a:cubicBezTo>
              </a:path>
              <a:path w="3300" h="968">
                <a:moveTo>
                  <a:pt x="16892" y="11509"/>
                </a:moveTo>
                <a:cubicBezTo>
                  <a:pt x="16725" y="11582"/>
                  <a:pt x="16665" y="11620"/>
                  <a:pt x="16694" y="11807"/>
                </a:cubicBezTo>
                <a:cubicBezTo>
                  <a:pt x="16901" y="11745"/>
                  <a:pt x="17047" y="11667"/>
                  <a:pt x="16942" y="11410"/>
                </a:cubicBezTo>
                <a:cubicBezTo>
                  <a:pt x="16869" y="11301"/>
                  <a:pt x="16870" y="11286"/>
                  <a:pt x="16818" y="11237"/>
                </a:cubicBezTo>
                <a:cubicBezTo>
                  <a:pt x="16871" y="11430"/>
                  <a:pt x="16876" y="11628"/>
                  <a:pt x="17041" y="11733"/>
                </a:cubicBezTo>
              </a:path>
              <a:path w="3300" h="968">
                <a:moveTo>
                  <a:pt x="17165" y="11534"/>
                </a:moveTo>
                <a:cubicBezTo>
                  <a:pt x="17240" y="11473"/>
                  <a:pt x="17344" y="11429"/>
                  <a:pt x="17239" y="11361"/>
                </a:cubicBezTo>
                <a:cubicBezTo>
                  <a:pt x="17101" y="11511"/>
                  <a:pt x="17082" y="11591"/>
                  <a:pt x="17190" y="11757"/>
                </a:cubicBezTo>
                <a:cubicBezTo>
                  <a:pt x="17359" y="11730"/>
                  <a:pt x="17421" y="11704"/>
                  <a:pt x="17462" y="11559"/>
                </a:cubicBezTo>
              </a:path>
              <a:path w="3300" h="968">
                <a:moveTo>
                  <a:pt x="17711" y="11460"/>
                </a:moveTo>
                <a:cubicBezTo>
                  <a:pt x="17727" y="11511"/>
                  <a:pt x="17844" y="11850"/>
                  <a:pt x="17959" y="11683"/>
                </a:cubicBezTo>
                <a:cubicBezTo>
                  <a:pt x="17980" y="11575"/>
                  <a:pt x="17993" y="11549"/>
                  <a:pt x="17959" y="11485"/>
                </a:cubicBezTo>
                <a:cubicBezTo>
                  <a:pt x="18015" y="11710"/>
                  <a:pt x="18067" y="11897"/>
                  <a:pt x="18083" y="12129"/>
                </a:cubicBezTo>
                <a:cubicBezTo>
                  <a:pt x="17819" y="12222"/>
                  <a:pt x="17839" y="12197"/>
                  <a:pt x="17611" y="12030"/>
                </a:cubicBezTo>
              </a:path>
              <a:path w="3300" h="968">
                <a:moveTo>
                  <a:pt x="18157" y="11509"/>
                </a:moveTo>
                <a:cubicBezTo>
                  <a:pt x="18200" y="11616"/>
                  <a:pt x="18211" y="11640"/>
                  <a:pt x="18231" y="11708"/>
                </a:cubicBezTo>
                <a:cubicBezTo>
                  <a:pt x="18191" y="11627"/>
                  <a:pt x="18141" y="11397"/>
                  <a:pt x="18331" y="11435"/>
                </a:cubicBezTo>
                <a:cubicBezTo>
                  <a:pt x="18460" y="11461"/>
                  <a:pt x="18518" y="11584"/>
                  <a:pt x="18554" y="1168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6920" y="4089240"/>
            <a:ext cx="714240" cy="277920"/>
          </a:xfrm>
          <a:custGeom>
            <a:avLst/>
            <a:gdLst/>
            <a:ahLst/>
            <a:rect l="l" t="t" r="r" b="b"/>
            <a:pathLst>
              <a:path w="1985" h="769">
                <a:moveTo>
                  <a:pt x="19298" y="11435"/>
                </a:moveTo>
                <a:cubicBezTo>
                  <a:pt x="19327" y="11520"/>
                  <a:pt x="19340" y="11554"/>
                  <a:pt x="19372" y="11609"/>
                </a:cubicBezTo>
                <a:cubicBezTo>
                  <a:pt x="19372" y="11843"/>
                  <a:pt x="19332" y="11415"/>
                  <a:pt x="19521" y="11410"/>
                </a:cubicBezTo>
                <a:cubicBezTo>
                  <a:pt x="19668" y="11406"/>
                  <a:pt x="19884" y="11824"/>
                  <a:pt x="19769" y="11733"/>
                </a:cubicBezTo>
                <a:cubicBezTo>
                  <a:pt x="19761" y="11716"/>
                  <a:pt x="19753" y="11700"/>
                  <a:pt x="19745" y="11683"/>
                </a:cubicBezTo>
                <a:cubicBezTo>
                  <a:pt x="19795" y="11513"/>
                  <a:pt x="19794" y="11490"/>
                  <a:pt x="19943" y="11410"/>
                </a:cubicBezTo>
                <a:cubicBezTo>
                  <a:pt x="20039" y="11534"/>
                  <a:pt x="20074" y="11603"/>
                  <a:pt x="20117" y="11757"/>
                </a:cubicBezTo>
              </a:path>
              <a:path w="1985" h="769">
                <a:moveTo>
                  <a:pt x="20365" y="11361"/>
                </a:moveTo>
                <a:cubicBezTo>
                  <a:pt x="20212" y="11513"/>
                  <a:pt x="20182" y="11508"/>
                  <a:pt x="20216" y="11708"/>
                </a:cubicBezTo>
                <a:cubicBezTo>
                  <a:pt x="20335" y="11708"/>
                  <a:pt x="20630" y="11702"/>
                  <a:pt x="20513" y="11485"/>
                </a:cubicBezTo>
                <a:cubicBezTo>
                  <a:pt x="20505" y="11485"/>
                  <a:pt x="20497" y="11485"/>
                  <a:pt x="20489" y="11485"/>
                </a:cubicBezTo>
                <a:cubicBezTo>
                  <a:pt x="20543" y="11627"/>
                  <a:pt x="20615" y="11766"/>
                  <a:pt x="20786" y="11633"/>
                </a:cubicBezTo>
                <a:cubicBezTo>
                  <a:pt x="20811" y="11600"/>
                  <a:pt x="20836" y="11567"/>
                  <a:pt x="20861" y="11534"/>
                </a:cubicBezTo>
                <a:cubicBezTo>
                  <a:pt x="20953" y="11580"/>
                  <a:pt x="20923" y="11712"/>
                  <a:pt x="21010" y="11658"/>
                </a:cubicBezTo>
                <a:cubicBezTo>
                  <a:pt x="21088" y="11610"/>
                  <a:pt x="21095" y="11503"/>
                  <a:pt x="21134" y="11435"/>
                </a:cubicBezTo>
                <a:cubicBezTo>
                  <a:pt x="21182" y="11639"/>
                  <a:pt x="21171" y="11919"/>
                  <a:pt x="21258" y="12105"/>
                </a:cubicBezTo>
                <a:cubicBezTo>
                  <a:pt x="21258" y="12139"/>
                  <a:pt x="21262" y="12138"/>
                  <a:pt x="21282" y="1208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3956040"/>
            <a:ext cx="688680" cy="276120"/>
          </a:xfrm>
          <a:custGeom>
            <a:avLst/>
            <a:gdLst/>
            <a:ahLst/>
            <a:rect l="l" t="t" r="r" b="b"/>
            <a:pathLst>
              <a:path w="1911" h="770">
                <a:moveTo>
                  <a:pt x="21803" y="10988"/>
                </a:moveTo>
                <a:cubicBezTo>
                  <a:pt x="21828" y="11222"/>
                  <a:pt x="21886" y="11451"/>
                  <a:pt x="21927" y="11683"/>
                </a:cubicBezTo>
                <a:cubicBezTo>
                  <a:pt x="21927" y="11691"/>
                  <a:pt x="21927" y="11700"/>
                  <a:pt x="21927" y="11708"/>
                </a:cubicBezTo>
                <a:cubicBezTo>
                  <a:pt x="21941" y="11518"/>
                  <a:pt x="21958" y="11464"/>
                  <a:pt x="22126" y="11385"/>
                </a:cubicBezTo>
                <a:cubicBezTo>
                  <a:pt x="22196" y="11500"/>
                  <a:pt x="22241" y="11708"/>
                  <a:pt x="22299" y="11757"/>
                </a:cubicBezTo>
              </a:path>
              <a:path w="1911" h="770">
                <a:moveTo>
                  <a:pt x="22473" y="11410"/>
                </a:moveTo>
                <a:cubicBezTo>
                  <a:pt x="22393" y="11447"/>
                  <a:pt x="22148" y="11617"/>
                  <a:pt x="22374" y="11683"/>
                </a:cubicBezTo>
                <a:cubicBezTo>
                  <a:pt x="22553" y="11736"/>
                  <a:pt x="22544" y="11548"/>
                  <a:pt x="22547" y="11534"/>
                </a:cubicBezTo>
                <a:cubicBezTo>
                  <a:pt x="22577" y="11612"/>
                  <a:pt x="22671" y="11761"/>
                  <a:pt x="22771" y="11609"/>
                </a:cubicBezTo>
                <a:cubicBezTo>
                  <a:pt x="22790" y="11535"/>
                  <a:pt x="22798" y="11528"/>
                  <a:pt x="22796" y="11485"/>
                </a:cubicBezTo>
                <a:cubicBezTo>
                  <a:pt x="22808" y="11575"/>
                  <a:pt x="22792" y="11711"/>
                  <a:pt x="22944" y="11658"/>
                </a:cubicBezTo>
                <a:cubicBezTo>
                  <a:pt x="23098" y="11604"/>
                  <a:pt x="23076" y="11502"/>
                  <a:pt x="23068" y="11385"/>
                </a:cubicBezTo>
                <a:cubicBezTo>
                  <a:pt x="23183" y="11400"/>
                  <a:pt x="23306" y="11414"/>
                  <a:pt x="23416" y="11336"/>
                </a:cubicBezTo>
                <a:cubicBezTo>
                  <a:pt x="23453" y="11279"/>
                  <a:pt x="23469" y="11276"/>
                  <a:pt x="23465" y="11237"/>
                </a:cubicBezTo>
                <a:cubicBezTo>
                  <a:pt x="23377" y="11338"/>
                  <a:pt x="23351" y="11522"/>
                  <a:pt x="23564" y="11509"/>
                </a:cubicBezTo>
                <a:cubicBezTo>
                  <a:pt x="23614" y="11493"/>
                  <a:pt x="23663" y="11476"/>
                  <a:pt x="23713" y="114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33960" y="4446720"/>
            <a:ext cx="679320" cy="23328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14585" y="12725"/>
                </a:moveTo>
                <a:cubicBezTo>
                  <a:pt x="14576" y="12643"/>
                  <a:pt x="14540" y="12496"/>
                  <a:pt x="14412" y="12601"/>
                </a:cubicBezTo>
                <a:cubicBezTo>
                  <a:pt x="14297" y="12739"/>
                  <a:pt x="14258" y="12774"/>
                  <a:pt x="14263" y="12898"/>
                </a:cubicBezTo>
                <a:cubicBezTo>
                  <a:pt x="14448" y="13003"/>
                  <a:pt x="14642" y="12919"/>
                  <a:pt x="14585" y="12626"/>
                </a:cubicBezTo>
                <a:cubicBezTo>
                  <a:pt x="14564" y="12518"/>
                  <a:pt x="14492" y="12447"/>
                  <a:pt x="14461" y="12353"/>
                </a:cubicBezTo>
                <a:cubicBezTo>
                  <a:pt x="14514" y="12444"/>
                  <a:pt x="14599" y="12856"/>
                  <a:pt x="14709" y="12898"/>
                </a:cubicBezTo>
                <a:cubicBezTo>
                  <a:pt x="14819" y="12826"/>
                  <a:pt x="14868" y="12776"/>
                  <a:pt x="14908" y="12675"/>
                </a:cubicBezTo>
              </a:path>
              <a:path w="1886" h="646">
                <a:moveTo>
                  <a:pt x="14908" y="12551"/>
                </a:moveTo>
                <a:cubicBezTo>
                  <a:pt x="14863" y="12684"/>
                  <a:pt x="14760" y="13018"/>
                  <a:pt x="15056" y="12923"/>
                </a:cubicBezTo>
                <a:cubicBezTo>
                  <a:pt x="15207" y="12875"/>
                  <a:pt x="15090" y="12727"/>
                  <a:pt x="15056" y="12650"/>
                </a:cubicBezTo>
                <a:cubicBezTo>
                  <a:pt x="15289" y="12589"/>
                  <a:pt x="15312" y="12708"/>
                  <a:pt x="15404" y="12898"/>
                </a:cubicBezTo>
                <a:cubicBezTo>
                  <a:pt x="15412" y="12915"/>
                  <a:pt x="15421" y="12931"/>
                  <a:pt x="15429" y="12948"/>
                </a:cubicBezTo>
                <a:cubicBezTo>
                  <a:pt x="15436" y="12847"/>
                  <a:pt x="15398" y="12588"/>
                  <a:pt x="15478" y="12650"/>
                </a:cubicBezTo>
                <a:cubicBezTo>
                  <a:pt x="15537" y="12696"/>
                  <a:pt x="15589" y="12943"/>
                  <a:pt x="15751" y="12849"/>
                </a:cubicBezTo>
                <a:cubicBezTo>
                  <a:pt x="15869" y="12781"/>
                  <a:pt x="15839" y="12651"/>
                  <a:pt x="15825" y="12551"/>
                </a:cubicBezTo>
                <a:cubicBezTo>
                  <a:pt x="15780" y="12723"/>
                  <a:pt x="15789" y="12738"/>
                  <a:pt x="15850" y="12898"/>
                </a:cubicBezTo>
                <a:cubicBezTo>
                  <a:pt x="16005" y="12898"/>
                  <a:pt x="16060" y="12895"/>
                  <a:pt x="16148" y="1282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0800" y="5027760"/>
            <a:ext cx="1602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15677" y="13965"/>
                </a:moveTo>
                <a:cubicBezTo>
                  <a:pt x="15588" y="13991"/>
                  <a:pt x="15393" y="14023"/>
                  <a:pt x="15354" y="14089"/>
                </a:cubicBezTo>
                <a:cubicBezTo>
                  <a:pt x="15305" y="14186"/>
                  <a:pt x="15289" y="14216"/>
                  <a:pt x="15280" y="14288"/>
                </a:cubicBezTo>
                <a:cubicBezTo>
                  <a:pt x="15469" y="14271"/>
                  <a:pt x="15557" y="14257"/>
                  <a:pt x="15726" y="14337"/>
                </a:cubicBezTo>
                <a:cubicBezTo>
                  <a:pt x="15671" y="14558"/>
                  <a:pt x="15580" y="14553"/>
                  <a:pt x="15354" y="14560"/>
                </a:cubicBezTo>
                <a:cubicBezTo>
                  <a:pt x="15302" y="14560"/>
                  <a:pt x="15287" y="14559"/>
                  <a:pt x="15354" y="1453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2640" y="4732200"/>
            <a:ext cx="2652480" cy="1036800"/>
          </a:xfrm>
          <a:custGeom>
            <a:avLst/>
            <a:gdLst/>
            <a:ahLst/>
            <a:rect l="l" t="t" r="r" b="b"/>
            <a:pathLst>
              <a:path w="7368" h="2879">
                <a:moveTo>
                  <a:pt x="15925" y="14436"/>
                </a:moveTo>
                <a:cubicBezTo>
                  <a:pt x="15933" y="14453"/>
                  <a:pt x="15941" y="14469"/>
                  <a:pt x="15949" y="14486"/>
                </a:cubicBezTo>
              </a:path>
              <a:path w="7368" h="2879">
                <a:moveTo>
                  <a:pt x="15949" y="14486"/>
                </a:moveTo>
                <a:lnTo>
                  <a:pt x="15949" y="14486"/>
                </a:lnTo>
              </a:path>
              <a:path w="7368" h="2879">
                <a:moveTo>
                  <a:pt x="16297" y="15999"/>
                </a:moveTo>
                <a:cubicBezTo>
                  <a:pt x="16319" y="16022"/>
                  <a:pt x="16324" y="16030"/>
                  <a:pt x="16346" y="16024"/>
                </a:cubicBezTo>
              </a:path>
              <a:path w="7368" h="2879">
                <a:moveTo>
                  <a:pt x="19918" y="14163"/>
                </a:moveTo>
                <a:cubicBezTo>
                  <a:pt x="19935" y="14171"/>
                  <a:pt x="19951" y="14180"/>
                  <a:pt x="19968" y="14188"/>
                </a:cubicBezTo>
              </a:path>
              <a:path w="7368" h="2879">
                <a:moveTo>
                  <a:pt x="19968" y="14188"/>
                </a:moveTo>
                <a:lnTo>
                  <a:pt x="19968" y="14188"/>
                </a:lnTo>
              </a:path>
              <a:path w="7368" h="2879">
                <a:moveTo>
                  <a:pt x="21183" y="13816"/>
                </a:moveTo>
                <a:cubicBezTo>
                  <a:pt x="21194" y="14050"/>
                  <a:pt x="21216" y="14281"/>
                  <a:pt x="21258" y="14511"/>
                </a:cubicBezTo>
              </a:path>
              <a:path w="7368" h="2879">
                <a:moveTo>
                  <a:pt x="21927" y="13568"/>
                </a:moveTo>
                <a:cubicBezTo>
                  <a:pt x="21935" y="13568"/>
                  <a:pt x="21944" y="13568"/>
                  <a:pt x="21952" y="13568"/>
                </a:cubicBezTo>
              </a:path>
              <a:path w="7368" h="2879">
                <a:moveTo>
                  <a:pt x="23068" y="13146"/>
                </a:moveTo>
                <a:cubicBezTo>
                  <a:pt x="23142" y="13353"/>
                  <a:pt x="23215" y="13561"/>
                  <a:pt x="23292" y="1376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8880" y="4973760"/>
            <a:ext cx="2214360" cy="982440"/>
          </a:xfrm>
          <a:custGeom>
            <a:avLst/>
            <a:gdLst/>
            <a:ahLst/>
            <a:rect l="l" t="t" r="r" b="b"/>
            <a:pathLst>
              <a:path w="6153" h="2730">
                <a:moveTo>
                  <a:pt x="16197" y="13990"/>
                </a:moveTo>
                <a:cubicBezTo>
                  <a:pt x="16197" y="14064"/>
                  <a:pt x="16160" y="14223"/>
                  <a:pt x="16272" y="14238"/>
                </a:cubicBezTo>
                <a:cubicBezTo>
                  <a:pt x="16461" y="14264"/>
                  <a:pt x="16494" y="14222"/>
                  <a:pt x="16570" y="14089"/>
                </a:cubicBezTo>
              </a:path>
              <a:path w="6153" h="2730">
                <a:moveTo>
                  <a:pt x="16421" y="13891"/>
                </a:moveTo>
                <a:cubicBezTo>
                  <a:pt x="16469" y="14071"/>
                  <a:pt x="16483" y="14612"/>
                  <a:pt x="16545" y="14436"/>
                </a:cubicBezTo>
                <a:cubicBezTo>
                  <a:pt x="16553" y="14395"/>
                  <a:pt x="16562" y="14353"/>
                  <a:pt x="16570" y="14312"/>
                </a:cubicBezTo>
              </a:path>
              <a:path w="6153" h="2730">
                <a:moveTo>
                  <a:pt x="16818" y="13816"/>
                </a:moveTo>
                <a:cubicBezTo>
                  <a:pt x="16853" y="14014"/>
                  <a:pt x="16900" y="14212"/>
                  <a:pt x="16917" y="14412"/>
                </a:cubicBezTo>
              </a:path>
              <a:path w="6153" h="2730">
                <a:moveTo>
                  <a:pt x="16545" y="14833"/>
                </a:moveTo>
                <a:cubicBezTo>
                  <a:pt x="16560" y="14980"/>
                  <a:pt x="16568" y="15140"/>
                  <a:pt x="16619" y="15280"/>
                </a:cubicBezTo>
                <a:cubicBezTo>
                  <a:pt x="16619" y="15238"/>
                  <a:pt x="16619" y="15213"/>
                  <a:pt x="16619" y="15180"/>
                </a:cubicBezTo>
              </a:path>
              <a:path w="6153" h="2730">
                <a:moveTo>
                  <a:pt x="16867" y="14709"/>
                </a:moveTo>
                <a:cubicBezTo>
                  <a:pt x="16971" y="14693"/>
                  <a:pt x="17059" y="14684"/>
                  <a:pt x="17165" y="14684"/>
                </a:cubicBezTo>
                <a:cubicBezTo>
                  <a:pt x="17148" y="14805"/>
                  <a:pt x="17095" y="14898"/>
                  <a:pt x="17041" y="15007"/>
                </a:cubicBezTo>
                <a:cubicBezTo>
                  <a:pt x="17019" y="15050"/>
                  <a:pt x="17015" y="15062"/>
                  <a:pt x="16991" y="15081"/>
                </a:cubicBezTo>
                <a:cubicBezTo>
                  <a:pt x="17115" y="15115"/>
                  <a:pt x="17211" y="15089"/>
                  <a:pt x="17338" y="15081"/>
                </a:cubicBezTo>
                <a:cubicBezTo>
                  <a:pt x="17380" y="15078"/>
                  <a:pt x="17380" y="15081"/>
                  <a:pt x="17413" y="15106"/>
                </a:cubicBezTo>
              </a:path>
              <a:path w="6153" h="2730">
                <a:moveTo>
                  <a:pt x="16073" y="15701"/>
                </a:moveTo>
                <a:cubicBezTo>
                  <a:pt x="16022" y="15582"/>
                  <a:pt x="15905" y="15469"/>
                  <a:pt x="15751" y="15528"/>
                </a:cubicBezTo>
                <a:cubicBezTo>
                  <a:pt x="15631" y="15624"/>
                  <a:pt x="15592" y="15653"/>
                  <a:pt x="15553" y="15751"/>
                </a:cubicBezTo>
                <a:cubicBezTo>
                  <a:pt x="15712" y="15846"/>
                  <a:pt x="15830" y="15862"/>
                  <a:pt x="15949" y="15677"/>
                </a:cubicBezTo>
                <a:cubicBezTo>
                  <a:pt x="15949" y="15652"/>
                  <a:pt x="15949" y="15644"/>
                  <a:pt x="15949" y="15627"/>
                </a:cubicBezTo>
                <a:cubicBezTo>
                  <a:pt x="16004" y="15736"/>
                  <a:pt x="15995" y="15895"/>
                  <a:pt x="15999" y="16024"/>
                </a:cubicBezTo>
                <a:cubicBezTo>
                  <a:pt x="15999" y="16040"/>
                  <a:pt x="15999" y="16057"/>
                  <a:pt x="15999" y="16073"/>
                </a:cubicBezTo>
              </a:path>
              <a:path w="6153" h="2730">
                <a:moveTo>
                  <a:pt x="16570" y="15701"/>
                </a:moveTo>
                <a:cubicBezTo>
                  <a:pt x="16653" y="15682"/>
                  <a:pt x="16691" y="15669"/>
                  <a:pt x="16768" y="15701"/>
                </a:cubicBezTo>
                <a:cubicBezTo>
                  <a:pt x="16760" y="15813"/>
                  <a:pt x="16767" y="15916"/>
                  <a:pt x="16669" y="15974"/>
                </a:cubicBezTo>
                <a:cubicBezTo>
                  <a:pt x="16762" y="15984"/>
                  <a:pt x="16846" y="15999"/>
                  <a:pt x="16942" y="15999"/>
                </a:cubicBezTo>
                <a:cubicBezTo>
                  <a:pt x="16950" y="15999"/>
                  <a:pt x="16958" y="15999"/>
                  <a:pt x="16966" y="15999"/>
                </a:cubicBezTo>
              </a:path>
              <a:path w="6153" h="2730">
                <a:moveTo>
                  <a:pt x="17388" y="15553"/>
                </a:moveTo>
                <a:cubicBezTo>
                  <a:pt x="17271" y="15669"/>
                  <a:pt x="17241" y="15712"/>
                  <a:pt x="17214" y="15875"/>
                </a:cubicBezTo>
                <a:cubicBezTo>
                  <a:pt x="17360" y="15903"/>
                  <a:pt x="17665" y="15905"/>
                  <a:pt x="17487" y="15652"/>
                </a:cubicBezTo>
                <a:cubicBezTo>
                  <a:pt x="17395" y="15582"/>
                  <a:pt x="17370" y="15557"/>
                  <a:pt x="17289" y="15577"/>
                </a:cubicBezTo>
              </a:path>
              <a:path w="6153" h="2730">
                <a:moveTo>
                  <a:pt x="15106" y="16545"/>
                </a:moveTo>
                <a:cubicBezTo>
                  <a:pt x="15349" y="16428"/>
                  <a:pt x="15627" y="16336"/>
                  <a:pt x="15900" y="16272"/>
                </a:cubicBezTo>
                <a:cubicBezTo>
                  <a:pt x="16406" y="16153"/>
                  <a:pt x="16944" y="16049"/>
                  <a:pt x="17462" y="15999"/>
                </a:cubicBezTo>
                <a:cubicBezTo>
                  <a:pt x="17629" y="15983"/>
                  <a:pt x="17533" y="16001"/>
                  <a:pt x="17587" y="16024"/>
                </a:cubicBezTo>
              </a:path>
              <a:path w="6153" h="2730">
                <a:moveTo>
                  <a:pt x="16297" y="15230"/>
                </a:moveTo>
                <a:cubicBezTo>
                  <a:pt x="16279" y="15253"/>
                  <a:pt x="16204" y="15334"/>
                  <a:pt x="16247" y="15304"/>
                </a:cubicBezTo>
                <a:cubicBezTo>
                  <a:pt x="16276" y="15276"/>
                  <a:pt x="16279" y="15268"/>
                  <a:pt x="16222" y="15280"/>
                </a:cubicBezTo>
              </a:path>
              <a:path w="6153" h="2730">
                <a:moveTo>
                  <a:pt x="16421" y="15429"/>
                </a:moveTo>
                <a:cubicBezTo>
                  <a:pt x="16485" y="15397"/>
                  <a:pt x="16606" y="15494"/>
                  <a:pt x="16694" y="15503"/>
                </a:cubicBezTo>
                <a:cubicBezTo>
                  <a:pt x="17030" y="15539"/>
                  <a:pt x="17398" y="15478"/>
                  <a:pt x="17711" y="15354"/>
                </a:cubicBezTo>
                <a:cubicBezTo>
                  <a:pt x="17855" y="15297"/>
                  <a:pt x="17926" y="15224"/>
                  <a:pt x="18008" y="15106"/>
                </a:cubicBezTo>
              </a:path>
              <a:path w="6153" h="2730">
                <a:moveTo>
                  <a:pt x="18976" y="14709"/>
                </a:moveTo>
                <a:cubicBezTo>
                  <a:pt x="18879" y="14565"/>
                  <a:pt x="18685" y="14617"/>
                  <a:pt x="18628" y="14808"/>
                </a:cubicBezTo>
                <a:cubicBezTo>
                  <a:pt x="18652" y="14948"/>
                  <a:pt x="18653" y="14992"/>
                  <a:pt x="18752" y="15032"/>
                </a:cubicBezTo>
                <a:cubicBezTo>
                  <a:pt x="18978" y="14830"/>
                  <a:pt x="18974" y="14687"/>
                  <a:pt x="18876" y="14387"/>
                </a:cubicBezTo>
                <a:cubicBezTo>
                  <a:pt x="18840" y="14314"/>
                  <a:pt x="18823" y="14309"/>
                  <a:pt x="18827" y="14263"/>
                </a:cubicBezTo>
                <a:cubicBezTo>
                  <a:pt x="18840" y="14364"/>
                  <a:pt x="18863" y="14773"/>
                  <a:pt x="18976" y="14833"/>
                </a:cubicBezTo>
                <a:cubicBezTo>
                  <a:pt x="19155" y="14928"/>
                  <a:pt x="19280" y="14586"/>
                  <a:pt x="19298" y="14486"/>
                </a:cubicBezTo>
                <a:cubicBezTo>
                  <a:pt x="19208" y="14531"/>
                  <a:pt x="19092" y="14798"/>
                  <a:pt x="19298" y="14833"/>
                </a:cubicBezTo>
                <a:cubicBezTo>
                  <a:pt x="19356" y="14817"/>
                  <a:pt x="19414" y="14800"/>
                  <a:pt x="19472" y="14784"/>
                </a:cubicBezTo>
              </a:path>
              <a:path w="6153" h="2730">
                <a:moveTo>
                  <a:pt x="19745" y="14461"/>
                </a:moveTo>
                <a:cubicBezTo>
                  <a:pt x="19638" y="14283"/>
                  <a:pt x="19533" y="14513"/>
                  <a:pt x="19521" y="14635"/>
                </a:cubicBezTo>
                <a:cubicBezTo>
                  <a:pt x="19487" y="14972"/>
                  <a:pt x="19879" y="14727"/>
                  <a:pt x="19943" y="14560"/>
                </a:cubicBezTo>
                <a:cubicBezTo>
                  <a:pt x="20051" y="14277"/>
                  <a:pt x="19827" y="14721"/>
                  <a:pt x="19993" y="14684"/>
                </a:cubicBezTo>
                <a:cubicBezTo>
                  <a:pt x="20001" y="14668"/>
                  <a:pt x="20009" y="14651"/>
                  <a:pt x="20017" y="14635"/>
                </a:cubicBezTo>
              </a:path>
              <a:path w="6153" h="2730">
                <a:moveTo>
                  <a:pt x="20141" y="14610"/>
                </a:moveTo>
                <a:cubicBezTo>
                  <a:pt x="20161" y="14650"/>
                  <a:pt x="20170" y="14657"/>
                  <a:pt x="20166" y="14684"/>
                </a:cubicBezTo>
                <a:cubicBezTo>
                  <a:pt x="20178" y="14576"/>
                  <a:pt x="20158" y="14416"/>
                  <a:pt x="20241" y="14337"/>
                </a:cubicBezTo>
                <a:cubicBezTo>
                  <a:pt x="20327" y="14256"/>
                  <a:pt x="20374" y="14499"/>
                  <a:pt x="20414" y="14610"/>
                </a:cubicBezTo>
                <a:cubicBezTo>
                  <a:pt x="20414" y="14710"/>
                  <a:pt x="20405" y="14506"/>
                  <a:pt x="20439" y="14412"/>
                </a:cubicBezTo>
                <a:cubicBezTo>
                  <a:pt x="20483" y="14347"/>
                  <a:pt x="20489" y="14327"/>
                  <a:pt x="20538" y="14312"/>
                </a:cubicBezTo>
                <a:cubicBezTo>
                  <a:pt x="20638" y="14421"/>
                  <a:pt x="20667" y="14503"/>
                  <a:pt x="20687" y="14660"/>
                </a:cubicBezTo>
              </a:path>
              <a:path w="6153" h="2730">
                <a:moveTo>
                  <a:pt x="20960" y="14188"/>
                </a:moveTo>
                <a:cubicBezTo>
                  <a:pt x="20799" y="14323"/>
                  <a:pt x="20769" y="14457"/>
                  <a:pt x="20811" y="14660"/>
                </a:cubicBezTo>
                <a:cubicBezTo>
                  <a:pt x="20947" y="14553"/>
                  <a:pt x="20960" y="14523"/>
                  <a:pt x="20960" y="14337"/>
                </a:cubicBezTo>
                <a:cubicBezTo>
                  <a:pt x="21013" y="14553"/>
                  <a:pt x="21092" y="14507"/>
                  <a:pt x="21258" y="1441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12080" y="4714920"/>
            <a:ext cx="830160" cy="411120"/>
          </a:xfrm>
          <a:custGeom>
            <a:avLst/>
            <a:gdLst/>
            <a:ahLst/>
            <a:rect l="l" t="t" r="r" b="b"/>
            <a:pathLst>
              <a:path w="2308" h="1142">
                <a:moveTo>
                  <a:pt x="21977" y="13940"/>
                </a:moveTo>
                <a:cubicBezTo>
                  <a:pt x="21990" y="14043"/>
                  <a:pt x="21990" y="14225"/>
                  <a:pt x="22126" y="14238"/>
                </a:cubicBezTo>
                <a:cubicBezTo>
                  <a:pt x="22363" y="14261"/>
                  <a:pt x="22272" y="13979"/>
                  <a:pt x="22374" y="13891"/>
                </a:cubicBezTo>
                <a:cubicBezTo>
                  <a:pt x="22478" y="13802"/>
                  <a:pt x="22516" y="14088"/>
                  <a:pt x="22523" y="14114"/>
                </a:cubicBezTo>
                <a:cubicBezTo>
                  <a:pt x="22523" y="14122"/>
                  <a:pt x="22523" y="14131"/>
                  <a:pt x="22523" y="14139"/>
                </a:cubicBezTo>
                <a:cubicBezTo>
                  <a:pt x="22506" y="14055"/>
                  <a:pt x="22457" y="13922"/>
                  <a:pt x="22523" y="13841"/>
                </a:cubicBezTo>
                <a:cubicBezTo>
                  <a:pt x="22659" y="13674"/>
                  <a:pt x="22828" y="13923"/>
                  <a:pt x="22870" y="14015"/>
                </a:cubicBezTo>
                <a:cubicBezTo>
                  <a:pt x="22878" y="14040"/>
                  <a:pt x="22887" y="14064"/>
                  <a:pt x="22895" y="14089"/>
                </a:cubicBezTo>
              </a:path>
              <a:path w="2308" h="1142">
                <a:moveTo>
                  <a:pt x="22895" y="13444"/>
                </a:moveTo>
                <a:cubicBezTo>
                  <a:pt x="23064" y="13509"/>
                  <a:pt x="23415" y="13670"/>
                  <a:pt x="23465" y="13370"/>
                </a:cubicBezTo>
                <a:cubicBezTo>
                  <a:pt x="23475" y="13310"/>
                  <a:pt x="23428" y="13164"/>
                  <a:pt x="23416" y="13097"/>
                </a:cubicBezTo>
                <a:cubicBezTo>
                  <a:pt x="23467" y="13261"/>
                  <a:pt x="23511" y="13428"/>
                  <a:pt x="23564" y="13593"/>
                </a:cubicBezTo>
                <a:cubicBezTo>
                  <a:pt x="23587" y="13501"/>
                  <a:pt x="23601" y="13457"/>
                  <a:pt x="23639" y="13370"/>
                </a:cubicBezTo>
                <a:cubicBezTo>
                  <a:pt x="23735" y="13149"/>
                  <a:pt x="23779" y="13360"/>
                  <a:pt x="23887" y="13444"/>
                </a:cubicBezTo>
                <a:cubicBezTo>
                  <a:pt x="24064" y="13583"/>
                  <a:pt x="24174" y="13442"/>
                  <a:pt x="24209" y="13271"/>
                </a:cubicBezTo>
                <a:cubicBezTo>
                  <a:pt x="24209" y="13205"/>
                  <a:pt x="24218" y="13180"/>
                  <a:pt x="24160" y="13196"/>
                </a:cubicBezTo>
                <a:cubicBezTo>
                  <a:pt x="24124" y="13274"/>
                  <a:pt x="24064" y="13529"/>
                  <a:pt x="24259" y="13494"/>
                </a:cubicBezTo>
                <a:cubicBezTo>
                  <a:pt x="24267" y="13477"/>
                  <a:pt x="24276" y="13461"/>
                  <a:pt x="24284" y="1344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62920" y="5205240"/>
            <a:ext cx="36360" cy="196920"/>
          </a:xfrm>
          <a:custGeom>
            <a:avLst/>
            <a:gdLst/>
            <a:ahLst/>
            <a:rect l="l" t="t" r="r" b="b"/>
            <a:pathLst>
              <a:path w="100" h="547">
                <a:moveTo>
                  <a:pt x="22399" y="14461"/>
                </a:moveTo>
                <a:cubicBezTo>
                  <a:pt x="22434" y="14643"/>
                  <a:pt x="22463" y="14825"/>
                  <a:pt x="22498" y="1500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50000" y="5429160"/>
            <a:ext cx="893880" cy="312840"/>
          </a:xfrm>
          <a:custGeom>
            <a:avLst/>
            <a:gdLst/>
            <a:ahLst/>
            <a:rect l="l" t="t" r="r" b="b"/>
            <a:pathLst>
              <a:path w="2482" h="869">
                <a:moveTo>
                  <a:pt x="18752" y="15304"/>
                </a:moveTo>
                <a:cubicBezTo>
                  <a:pt x="18814" y="15437"/>
                  <a:pt x="18785" y="15688"/>
                  <a:pt x="18976" y="15677"/>
                </a:cubicBezTo>
                <a:cubicBezTo>
                  <a:pt x="19113" y="15669"/>
                  <a:pt x="19194" y="15451"/>
                  <a:pt x="19124" y="15429"/>
                </a:cubicBezTo>
                <a:cubicBezTo>
                  <a:pt x="19146" y="15559"/>
                  <a:pt x="19275" y="15710"/>
                  <a:pt x="19397" y="15528"/>
                </a:cubicBezTo>
                <a:cubicBezTo>
                  <a:pt x="19498" y="15377"/>
                  <a:pt x="19334" y="15267"/>
                  <a:pt x="19224" y="15280"/>
                </a:cubicBezTo>
              </a:path>
              <a:path w="2482" h="869">
                <a:moveTo>
                  <a:pt x="19546" y="15503"/>
                </a:moveTo>
                <a:cubicBezTo>
                  <a:pt x="19563" y="15511"/>
                  <a:pt x="19579" y="15520"/>
                  <a:pt x="19596" y="15528"/>
                </a:cubicBezTo>
                <a:cubicBezTo>
                  <a:pt x="19596" y="15365"/>
                  <a:pt x="19584" y="15267"/>
                  <a:pt x="19720" y="15156"/>
                </a:cubicBezTo>
                <a:cubicBezTo>
                  <a:pt x="19822" y="15073"/>
                  <a:pt x="19907" y="15128"/>
                  <a:pt x="20017" y="15156"/>
                </a:cubicBezTo>
              </a:path>
              <a:path w="2482" h="869">
                <a:moveTo>
                  <a:pt x="20017" y="15156"/>
                </a:moveTo>
                <a:cubicBezTo>
                  <a:pt x="19944" y="15314"/>
                  <a:pt x="19899" y="15402"/>
                  <a:pt x="20042" y="15503"/>
                </a:cubicBezTo>
                <a:cubicBezTo>
                  <a:pt x="20145" y="15415"/>
                  <a:pt x="20224" y="15349"/>
                  <a:pt x="20117" y="15205"/>
                </a:cubicBezTo>
                <a:cubicBezTo>
                  <a:pt x="20109" y="15197"/>
                  <a:pt x="20100" y="15188"/>
                  <a:pt x="20092" y="15180"/>
                </a:cubicBezTo>
                <a:cubicBezTo>
                  <a:pt x="20307" y="15196"/>
                  <a:pt x="20355" y="15244"/>
                  <a:pt x="20414" y="15453"/>
                </a:cubicBezTo>
                <a:cubicBezTo>
                  <a:pt x="20414" y="15461"/>
                  <a:pt x="20414" y="15470"/>
                  <a:pt x="20414" y="15478"/>
                </a:cubicBezTo>
                <a:cubicBezTo>
                  <a:pt x="20402" y="15381"/>
                  <a:pt x="20338" y="15150"/>
                  <a:pt x="20513" y="15131"/>
                </a:cubicBezTo>
                <a:cubicBezTo>
                  <a:pt x="20683" y="15113"/>
                  <a:pt x="20708" y="15350"/>
                  <a:pt x="20786" y="15429"/>
                </a:cubicBezTo>
              </a:path>
              <a:path w="2482" h="869">
                <a:moveTo>
                  <a:pt x="20985" y="15106"/>
                </a:moveTo>
                <a:cubicBezTo>
                  <a:pt x="20934" y="15133"/>
                  <a:pt x="20660" y="15408"/>
                  <a:pt x="20886" y="15379"/>
                </a:cubicBezTo>
                <a:cubicBezTo>
                  <a:pt x="20979" y="15316"/>
                  <a:pt x="21011" y="15278"/>
                  <a:pt x="21010" y="15180"/>
                </a:cubicBezTo>
                <a:cubicBezTo>
                  <a:pt x="21010" y="15122"/>
                  <a:pt x="21010" y="15114"/>
                  <a:pt x="21010" y="15081"/>
                </a:cubicBezTo>
                <a:cubicBezTo>
                  <a:pt x="21105" y="15286"/>
                  <a:pt x="21298" y="15562"/>
                  <a:pt x="21233" y="15801"/>
                </a:cubicBezTo>
                <a:cubicBezTo>
                  <a:pt x="21137" y="16154"/>
                  <a:pt x="20791" y="15841"/>
                  <a:pt x="20687" y="1572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67800" y="5116680"/>
            <a:ext cx="785520" cy="420480"/>
          </a:xfrm>
          <a:custGeom>
            <a:avLst/>
            <a:gdLst/>
            <a:ahLst/>
            <a:rect l="l" t="t" r="r" b="b"/>
            <a:pathLst>
              <a:path w="2184" h="1167">
                <a:moveTo>
                  <a:pt x="21853" y="14908"/>
                </a:moveTo>
                <a:cubicBezTo>
                  <a:pt x="21884" y="15062"/>
                  <a:pt x="21909" y="15227"/>
                  <a:pt x="21952" y="15379"/>
                </a:cubicBezTo>
                <a:cubicBezTo>
                  <a:pt x="22001" y="15552"/>
                  <a:pt x="21885" y="15012"/>
                  <a:pt x="21977" y="14858"/>
                </a:cubicBezTo>
                <a:cubicBezTo>
                  <a:pt x="22018" y="14825"/>
                  <a:pt x="22060" y="14792"/>
                  <a:pt x="22101" y="14759"/>
                </a:cubicBezTo>
                <a:cubicBezTo>
                  <a:pt x="22219" y="14884"/>
                  <a:pt x="22353" y="15074"/>
                  <a:pt x="22051" y="15081"/>
                </a:cubicBezTo>
                <a:cubicBezTo>
                  <a:pt x="21828" y="15086"/>
                  <a:pt x="21957" y="15048"/>
                  <a:pt x="22027" y="15007"/>
                </a:cubicBezTo>
              </a:path>
              <a:path w="2184" h="1167">
                <a:moveTo>
                  <a:pt x="22895" y="14610"/>
                </a:moveTo>
                <a:cubicBezTo>
                  <a:pt x="22756" y="14610"/>
                  <a:pt x="22553" y="14735"/>
                  <a:pt x="22622" y="14932"/>
                </a:cubicBezTo>
                <a:cubicBezTo>
                  <a:pt x="22701" y="15156"/>
                  <a:pt x="22839" y="14783"/>
                  <a:pt x="22845" y="14734"/>
                </a:cubicBezTo>
                <a:cubicBezTo>
                  <a:pt x="22845" y="14726"/>
                  <a:pt x="22845" y="14717"/>
                  <a:pt x="22845" y="14709"/>
                </a:cubicBezTo>
                <a:cubicBezTo>
                  <a:pt x="22886" y="14845"/>
                  <a:pt x="22960" y="14965"/>
                  <a:pt x="23118" y="14858"/>
                </a:cubicBezTo>
                <a:cubicBezTo>
                  <a:pt x="23159" y="14817"/>
                  <a:pt x="23201" y="14775"/>
                  <a:pt x="23242" y="14734"/>
                </a:cubicBezTo>
              </a:path>
              <a:path w="2184" h="1167">
                <a:moveTo>
                  <a:pt x="23341" y="14560"/>
                </a:moveTo>
                <a:cubicBezTo>
                  <a:pt x="23378" y="14588"/>
                  <a:pt x="23377" y="14602"/>
                  <a:pt x="23391" y="14560"/>
                </a:cubicBezTo>
                <a:cubicBezTo>
                  <a:pt x="23290" y="14427"/>
                  <a:pt x="23177" y="14612"/>
                  <a:pt x="23242" y="14684"/>
                </a:cubicBezTo>
                <a:cubicBezTo>
                  <a:pt x="23365" y="14821"/>
                  <a:pt x="23557" y="14583"/>
                  <a:pt x="23614" y="14536"/>
                </a:cubicBezTo>
              </a:path>
              <a:path w="2184" h="1167">
                <a:moveTo>
                  <a:pt x="23688" y="14461"/>
                </a:moveTo>
                <a:cubicBezTo>
                  <a:pt x="23737" y="14431"/>
                  <a:pt x="23917" y="14361"/>
                  <a:pt x="23912" y="14288"/>
                </a:cubicBezTo>
                <a:cubicBezTo>
                  <a:pt x="23904" y="14271"/>
                  <a:pt x="23895" y="14255"/>
                  <a:pt x="23887" y="14238"/>
                </a:cubicBezTo>
                <a:cubicBezTo>
                  <a:pt x="23799" y="14106"/>
                  <a:pt x="23697" y="14413"/>
                  <a:pt x="23688" y="14461"/>
                </a:cubicBezTo>
                <a:cubicBezTo>
                  <a:pt x="23634" y="14750"/>
                  <a:pt x="23855" y="14669"/>
                  <a:pt x="24036" y="1463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86680" y="5875200"/>
            <a:ext cx="187200" cy="15264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17462" y="16321"/>
                </a:moveTo>
                <a:cubicBezTo>
                  <a:pt x="17485" y="16389"/>
                  <a:pt x="17631" y="16325"/>
                  <a:pt x="17686" y="16321"/>
                </a:cubicBezTo>
                <a:cubicBezTo>
                  <a:pt x="17797" y="16313"/>
                  <a:pt x="17812" y="16313"/>
                  <a:pt x="17884" y="16371"/>
                </a:cubicBezTo>
                <a:cubicBezTo>
                  <a:pt x="17794" y="16494"/>
                  <a:pt x="17758" y="16518"/>
                  <a:pt x="17611" y="16570"/>
                </a:cubicBezTo>
                <a:cubicBezTo>
                  <a:pt x="17695" y="16514"/>
                  <a:pt x="17839" y="16481"/>
                  <a:pt x="17934" y="16545"/>
                </a:cubicBezTo>
                <a:cubicBezTo>
                  <a:pt x="17980" y="16615"/>
                  <a:pt x="17997" y="16635"/>
                  <a:pt x="17983" y="16694"/>
                </a:cubicBezTo>
                <a:cubicBezTo>
                  <a:pt x="17868" y="16726"/>
                  <a:pt x="17768" y="16764"/>
                  <a:pt x="17661" y="1671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5892840"/>
            <a:ext cx="500040" cy="32220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16818" y="16446"/>
                </a:moveTo>
                <a:cubicBezTo>
                  <a:pt x="16919" y="16394"/>
                  <a:pt x="16975" y="16371"/>
                  <a:pt x="17090" y="16371"/>
                </a:cubicBezTo>
                <a:cubicBezTo>
                  <a:pt x="17090" y="16491"/>
                  <a:pt x="17085" y="16626"/>
                  <a:pt x="17066" y="16743"/>
                </a:cubicBezTo>
                <a:cubicBezTo>
                  <a:pt x="17056" y="16803"/>
                  <a:pt x="17041" y="16814"/>
                  <a:pt x="17041" y="16867"/>
                </a:cubicBezTo>
              </a:path>
              <a:path w="1390" h="894">
                <a:moveTo>
                  <a:pt x="16694" y="16892"/>
                </a:moveTo>
                <a:cubicBezTo>
                  <a:pt x="16694" y="16903"/>
                  <a:pt x="16694" y="17006"/>
                  <a:pt x="16694" y="16942"/>
                </a:cubicBezTo>
              </a:path>
              <a:path w="1390" h="894">
                <a:moveTo>
                  <a:pt x="15701" y="16768"/>
                </a:moveTo>
                <a:cubicBezTo>
                  <a:pt x="15718" y="16919"/>
                  <a:pt x="15745" y="17062"/>
                  <a:pt x="15751" y="17214"/>
                </a:cubicBezTo>
                <a:cubicBezTo>
                  <a:pt x="15752" y="17236"/>
                  <a:pt x="15751" y="17325"/>
                  <a:pt x="15751" y="17214"/>
                </a:cubicBezTo>
              </a:path>
              <a:path w="1390" h="894">
                <a:moveTo>
                  <a:pt x="16024" y="16818"/>
                </a:moveTo>
                <a:cubicBezTo>
                  <a:pt x="16024" y="16867"/>
                  <a:pt x="16024" y="16917"/>
                  <a:pt x="16024" y="16966"/>
                </a:cubicBezTo>
                <a:cubicBezTo>
                  <a:pt x="16150" y="16966"/>
                  <a:pt x="16262" y="16979"/>
                  <a:pt x="16371" y="16917"/>
                </a:cubicBezTo>
              </a:path>
              <a:path w="1390" h="894">
                <a:moveTo>
                  <a:pt x="16247" y="16570"/>
                </a:moveTo>
                <a:cubicBezTo>
                  <a:pt x="16265" y="16752"/>
                  <a:pt x="16301" y="16933"/>
                  <a:pt x="16321" y="17115"/>
                </a:cubicBezTo>
                <a:cubicBezTo>
                  <a:pt x="16325" y="17148"/>
                  <a:pt x="16321" y="17198"/>
                  <a:pt x="16321" y="1716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52760" y="4249800"/>
            <a:ext cx="133200" cy="19836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4936" y="11807"/>
                </a:moveTo>
                <a:cubicBezTo>
                  <a:pt x="4787" y="11822"/>
                  <a:pt x="4652" y="11814"/>
                  <a:pt x="4614" y="11956"/>
                </a:cubicBezTo>
                <a:cubicBezTo>
                  <a:pt x="4596" y="12047"/>
                  <a:pt x="4587" y="12054"/>
                  <a:pt x="4589" y="12105"/>
                </a:cubicBezTo>
                <a:cubicBezTo>
                  <a:pt x="4680" y="12087"/>
                  <a:pt x="4739" y="12038"/>
                  <a:pt x="4837" y="12080"/>
                </a:cubicBezTo>
                <a:cubicBezTo>
                  <a:pt x="4959" y="12132"/>
                  <a:pt x="4944" y="12201"/>
                  <a:pt x="4936" y="12303"/>
                </a:cubicBezTo>
                <a:cubicBezTo>
                  <a:pt x="4826" y="12329"/>
                  <a:pt x="4727" y="12353"/>
                  <a:pt x="4614" y="1235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3800" y="4259160"/>
            <a:ext cx="135000" cy="81000"/>
          </a:xfrm>
          <a:custGeom>
            <a:avLst/>
            <a:gdLst/>
            <a:ahLst/>
            <a:rect l="l" t="t" r="r" b="b"/>
            <a:pathLst>
              <a:path w="373" h="224">
                <a:moveTo>
                  <a:pt x="5482" y="11832"/>
                </a:moveTo>
                <a:cubicBezTo>
                  <a:pt x="5472" y="11902"/>
                  <a:pt x="5417" y="12034"/>
                  <a:pt x="5531" y="12055"/>
                </a:cubicBezTo>
                <a:cubicBezTo>
                  <a:pt x="5637" y="12075"/>
                  <a:pt x="5733" y="12040"/>
                  <a:pt x="5829" y="1200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71800" y="4232160"/>
            <a:ext cx="36360" cy="169920"/>
          </a:xfrm>
          <a:custGeom>
            <a:avLst/>
            <a:gdLst/>
            <a:ahLst/>
            <a:rect l="l" t="t" r="r" b="b"/>
            <a:pathLst>
              <a:path w="100" h="473">
                <a:moveTo>
                  <a:pt x="5755" y="11757"/>
                </a:moveTo>
                <a:cubicBezTo>
                  <a:pt x="5763" y="11900"/>
                  <a:pt x="5770" y="12102"/>
                  <a:pt x="5829" y="12229"/>
                </a:cubicBezTo>
                <a:cubicBezTo>
                  <a:pt x="5837" y="12229"/>
                  <a:pt x="5846" y="12229"/>
                  <a:pt x="5854" y="122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5000" y="4197240"/>
            <a:ext cx="63360" cy="204840"/>
          </a:xfrm>
          <a:custGeom>
            <a:avLst/>
            <a:gdLst/>
            <a:ahLst/>
            <a:rect l="l" t="t" r="r" b="b"/>
            <a:pathLst>
              <a:path w="174" h="572">
                <a:moveTo>
                  <a:pt x="6127" y="11658"/>
                </a:moveTo>
                <a:cubicBezTo>
                  <a:pt x="6216" y="11838"/>
                  <a:pt x="6215" y="12016"/>
                  <a:pt x="6276" y="12204"/>
                </a:cubicBezTo>
                <a:cubicBezTo>
                  <a:pt x="6284" y="12212"/>
                  <a:pt x="6292" y="12221"/>
                  <a:pt x="6300" y="122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0" y="4680000"/>
            <a:ext cx="63720" cy="204840"/>
          </a:xfrm>
          <a:custGeom>
            <a:avLst/>
            <a:gdLst/>
            <a:ahLst/>
            <a:rect l="l" t="t" r="r" b="b"/>
            <a:pathLst>
              <a:path w="175" h="571">
                <a:moveTo>
                  <a:pt x="3621" y="12998"/>
                </a:moveTo>
                <a:cubicBezTo>
                  <a:pt x="3740" y="13181"/>
                  <a:pt x="3754" y="13354"/>
                  <a:pt x="3795" y="1356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7960" y="4589640"/>
            <a:ext cx="17136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4663" y="12824"/>
                </a:moveTo>
                <a:cubicBezTo>
                  <a:pt x="4749" y="12763"/>
                  <a:pt x="4860" y="12694"/>
                  <a:pt x="4887" y="12849"/>
                </a:cubicBezTo>
                <a:cubicBezTo>
                  <a:pt x="4915" y="13013"/>
                  <a:pt x="4790" y="13118"/>
                  <a:pt x="4713" y="13246"/>
                </a:cubicBezTo>
                <a:cubicBezTo>
                  <a:pt x="4848" y="13227"/>
                  <a:pt x="4970" y="13178"/>
                  <a:pt x="5110" y="13171"/>
                </a:cubicBezTo>
                <a:cubicBezTo>
                  <a:pt x="5118" y="13171"/>
                  <a:pt x="5127" y="13171"/>
                  <a:pt x="5135" y="13171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28880" y="4705200"/>
            <a:ext cx="172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5407" y="13072"/>
                </a:moveTo>
                <a:cubicBezTo>
                  <a:pt x="5385" y="13125"/>
                  <a:pt x="5363" y="13131"/>
                  <a:pt x="5407" y="13146"/>
                </a:cubicBezTo>
                <a:cubicBezTo>
                  <a:pt x="5407" y="13112"/>
                  <a:pt x="5398" y="13099"/>
                  <a:pt x="5358" y="1309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5320" y="4983120"/>
            <a:ext cx="150840" cy="2048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5308" y="14064"/>
                </a:moveTo>
                <a:cubicBezTo>
                  <a:pt x="5308" y="13988"/>
                  <a:pt x="5322" y="13948"/>
                  <a:pt x="5259" y="13891"/>
                </a:cubicBezTo>
                <a:cubicBezTo>
                  <a:pt x="5110" y="13756"/>
                  <a:pt x="4973" y="13923"/>
                  <a:pt x="4986" y="14089"/>
                </a:cubicBezTo>
                <a:cubicBezTo>
                  <a:pt x="5002" y="14114"/>
                  <a:pt x="5019" y="14138"/>
                  <a:pt x="5035" y="14163"/>
                </a:cubicBezTo>
                <a:cubicBezTo>
                  <a:pt x="5208" y="14131"/>
                  <a:pt x="5199" y="14110"/>
                  <a:pt x="5283" y="13965"/>
                </a:cubicBezTo>
                <a:cubicBezTo>
                  <a:pt x="5291" y="13957"/>
                  <a:pt x="5300" y="13948"/>
                  <a:pt x="5308" y="13940"/>
                </a:cubicBezTo>
                <a:cubicBezTo>
                  <a:pt x="5329" y="14084"/>
                  <a:pt x="5328" y="14248"/>
                  <a:pt x="5358" y="14387"/>
                </a:cubicBezTo>
                <a:cubicBezTo>
                  <a:pt x="5383" y="14412"/>
                  <a:pt x="5391" y="14420"/>
                  <a:pt x="5407" y="1438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08160" y="491184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5854" y="13767"/>
                </a:moveTo>
                <a:cubicBezTo>
                  <a:pt x="5854" y="13713"/>
                  <a:pt x="5880" y="13649"/>
                  <a:pt x="5953" y="13643"/>
                </a:cubicBezTo>
                <a:cubicBezTo>
                  <a:pt x="6133" y="13628"/>
                  <a:pt x="6036" y="13947"/>
                  <a:pt x="6003" y="14015"/>
                </a:cubicBezTo>
                <a:cubicBezTo>
                  <a:pt x="5948" y="14088"/>
                  <a:pt x="5923" y="14088"/>
                  <a:pt x="5928" y="14139"/>
                </a:cubicBezTo>
                <a:cubicBezTo>
                  <a:pt x="6019" y="14139"/>
                  <a:pt x="6091" y="14095"/>
                  <a:pt x="6176" y="14064"/>
                </a:cubicBezTo>
                <a:cubicBezTo>
                  <a:pt x="6293" y="14021"/>
                  <a:pt x="6246" y="14067"/>
                  <a:pt x="6325" y="1396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7280" y="483084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6697" y="13543"/>
                </a:moveTo>
                <a:cubicBezTo>
                  <a:pt x="6663" y="13446"/>
                  <a:pt x="6550" y="13782"/>
                  <a:pt x="6548" y="13791"/>
                </a:cubicBezTo>
                <a:cubicBezTo>
                  <a:pt x="6548" y="13824"/>
                  <a:pt x="6548" y="13858"/>
                  <a:pt x="6548" y="13891"/>
                </a:cubicBezTo>
                <a:cubicBezTo>
                  <a:pt x="6672" y="13925"/>
                  <a:pt x="7068" y="13910"/>
                  <a:pt x="6945" y="13643"/>
                </a:cubicBezTo>
                <a:cubicBezTo>
                  <a:pt x="6783" y="13508"/>
                  <a:pt x="6718" y="13460"/>
                  <a:pt x="6573" y="1341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08160" y="462600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028" y="12898"/>
                </a:moveTo>
                <a:cubicBezTo>
                  <a:pt x="5904" y="12888"/>
                  <a:pt x="5775" y="13021"/>
                  <a:pt x="5879" y="13171"/>
                </a:cubicBezTo>
                <a:cubicBezTo>
                  <a:pt x="5912" y="13188"/>
                  <a:pt x="5945" y="13204"/>
                  <a:pt x="5978" y="13221"/>
                </a:cubicBezTo>
                <a:cubicBezTo>
                  <a:pt x="6154" y="13057"/>
                  <a:pt x="6134" y="13031"/>
                  <a:pt x="5978" y="1284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76640" y="4589640"/>
            <a:ext cx="134640" cy="12528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6424" y="12750"/>
                </a:moveTo>
                <a:cubicBezTo>
                  <a:pt x="6341" y="12891"/>
                  <a:pt x="6246" y="13164"/>
                  <a:pt x="6548" y="13097"/>
                </a:cubicBezTo>
                <a:cubicBezTo>
                  <a:pt x="6786" y="13045"/>
                  <a:pt x="6698" y="12881"/>
                  <a:pt x="6548" y="1284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6040" y="5062680"/>
            <a:ext cx="911160" cy="241200"/>
          </a:xfrm>
          <a:custGeom>
            <a:avLst/>
            <a:gdLst/>
            <a:ahLst/>
            <a:rect l="l" t="t" r="r" b="b"/>
            <a:pathLst>
              <a:path w="2531" h="671">
                <a:moveTo>
                  <a:pt x="4490" y="14734"/>
                </a:moveTo>
                <a:cubicBezTo>
                  <a:pt x="4816" y="14548"/>
                  <a:pt x="5166" y="14520"/>
                  <a:pt x="5531" y="14436"/>
                </a:cubicBezTo>
                <a:cubicBezTo>
                  <a:pt x="6023" y="14323"/>
                  <a:pt x="6497" y="14152"/>
                  <a:pt x="6995" y="14064"/>
                </a:cubicBezTo>
                <a:cubicBezTo>
                  <a:pt x="7003" y="14064"/>
                  <a:pt x="7012" y="14064"/>
                  <a:pt x="7020" y="1406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90840" y="5214960"/>
            <a:ext cx="19080" cy="196920"/>
          </a:xfrm>
          <a:custGeom>
            <a:avLst/>
            <a:gdLst/>
            <a:ahLst/>
            <a:rect l="l" t="t" r="r" b="b"/>
            <a:pathLst>
              <a:path w="50" h="547">
                <a:moveTo>
                  <a:pt x="6921" y="14511"/>
                </a:moveTo>
                <a:cubicBezTo>
                  <a:pt x="6972" y="14493"/>
                  <a:pt x="6945" y="14507"/>
                  <a:pt x="6945" y="14585"/>
                </a:cubicBezTo>
                <a:cubicBezTo>
                  <a:pt x="6945" y="14724"/>
                  <a:pt x="6918" y="14910"/>
                  <a:pt x="6970" y="1503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5295960"/>
            <a:ext cx="169920" cy="20484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6077" y="14709"/>
                </a:moveTo>
                <a:cubicBezTo>
                  <a:pt x="6067" y="14880"/>
                  <a:pt x="6034" y="15037"/>
                  <a:pt x="6052" y="15205"/>
                </a:cubicBezTo>
                <a:cubicBezTo>
                  <a:pt x="6220" y="15252"/>
                  <a:pt x="6436" y="15261"/>
                  <a:pt x="6499" y="15032"/>
                </a:cubicBezTo>
                <a:cubicBezTo>
                  <a:pt x="6491" y="15007"/>
                  <a:pt x="6482" y="14982"/>
                  <a:pt x="6474" y="14957"/>
                </a:cubicBezTo>
                <a:cubicBezTo>
                  <a:pt x="6340" y="14947"/>
                  <a:pt x="6152" y="15020"/>
                  <a:pt x="6152" y="15205"/>
                </a:cubicBezTo>
                <a:cubicBezTo>
                  <a:pt x="6168" y="15230"/>
                  <a:pt x="6185" y="15255"/>
                  <a:pt x="6201" y="1528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4160" y="5537160"/>
            <a:ext cx="34920" cy="27000"/>
          </a:xfrm>
          <a:custGeom>
            <a:avLst/>
            <a:gdLst/>
            <a:ahLst/>
            <a:rect l="l" t="t" r="r" b="b"/>
            <a:pathLst>
              <a:path w="100" h="75">
                <a:moveTo>
                  <a:pt x="5804" y="15379"/>
                </a:moveTo>
                <a:cubicBezTo>
                  <a:pt x="5743" y="15379"/>
                  <a:pt x="5728" y="15398"/>
                  <a:pt x="5705" y="15453"/>
                </a:cubicBezTo>
                <a:cubicBezTo>
                  <a:pt x="5726" y="15445"/>
                  <a:pt x="5834" y="15360"/>
                  <a:pt x="5779" y="15379"/>
                </a:cubicBezTo>
                <a:cubicBezTo>
                  <a:pt x="5763" y="15387"/>
                  <a:pt x="5746" y="15396"/>
                  <a:pt x="5730" y="1540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9960" y="5367240"/>
            <a:ext cx="160200" cy="19692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5184" y="14908"/>
                </a:moveTo>
                <a:cubicBezTo>
                  <a:pt x="5159" y="15030"/>
                  <a:pt x="5107" y="15175"/>
                  <a:pt x="5110" y="15304"/>
                </a:cubicBezTo>
                <a:cubicBezTo>
                  <a:pt x="5114" y="15459"/>
                  <a:pt x="5235" y="15470"/>
                  <a:pt x="5358" y="15429"/>
                </a:cubicBezTo>
                <a:cubicBezTo>
                  <a:pt x="5505" y="15380"/>
                  <a:pt x="5544" y="15295"/>
                  <a:pt x="5556" y="15156"/>
                </a:cubicBezTo>
                <a:cubicBezTo>
                  <a:pt x="5384" y="15121"/>
                  <a:pt x="5343" y="15220"/>
                  <a:pt x="5283" y="15379"/>
                </a:cubicBezTo>
                <a:cubicBezTo>
                  <a:pt x="5283" y="15404"/>
                  <a:pt x="5283" y="15412"/>
                  <a:pt x="5283" y="1537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3920" y="4232160"/>
            <a:ext cx="44280" cy="125640"/>
          </a:xfrm>
          <a:custGeom>
            <a:avLst/>
            <a:gdLst/>
            <a:ahLst/>
            <a:rect l="l" t="t" r="r" b="b"/>
            <a:pathLst>
              <a:path w="125" h="349">
                <a:moveTo>
                  <a:pt x="3870" y="11757"/>
                </a:moveTo>
                <a:cubicBezTo>
                  <a:pt x="3886" y="11860"/>
                  <a:pt x="3926" y="11986"/>
                  <a:pt x="3969" y="12080"/>
                </a:cubicBezTo>
                <a:cubicBezTo>
                  <a:pt x="3977" y="12088"/>
                  <a:pt x="3986" y="12097"/>
                  <a:pt x="3994" y="12105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71760" y="5392800"/>
            <a:ext cx="169560" cy="26028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4539" y="15007"/>
                </a:moveTo>
                <a:cubicBezTo>
                  <a:pt x="4520" y="15064"/>
                  <a:pt x="4511" y="15071"/>
                  <a:pt x="4514" y="15106"/>
                </a:cubicBezTo>
                <a:cubicBezTo>
                  <a:pt x="4532" y="15070"/>
                  <a:pt x="4694" y="14881"/>
                  <a:pt x="4762" y="15007"/>
                </a:cubicBezTo>
                <a:cubicBezTo>
                  <a:pt x="4897" y="15256"/>
                  <a:pt x="4672" y="15615"/>
                  <a:pt x="4440" y="15701"/>
                </a:cubicBezTo>
                <a:cubicBezTo>
                  <a:pt x="4415" y="15693"/>
                  <a:pt x="4391" y="15685"/>
                  <a:pt x="4366" y="15677"/>
                </a:cubicBezTo>
                <a:cubicBezTo>
                  <a:pt x="4431" y="15544"/>
                  <a:pt x="4499" y="15452"/>
                  <a:pt x="4663" y="15503"/>
                </a:cubicBezTo>
                <a:cubicBezTo>
                  <a:pt x="4744" y="15528"/>
                  <a:pt x="4782" y="15572"/>
                  <a:pt x="4837" y="1562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9240" y="5054760"/>
            <a:ext cx="1251000" cy="955440"/>
          </a:xfrm>
          <a:custGeom>
            <a:avLst/>
            <a:gdLst/>
            <a:ahLst/>
            <a:rect l="l" t="t" r="r" b="b"/>
            <a:pathLst>
              <a:path w="3474" h="2656">
                <a:moveTo>
                  <a:pt x="14610" y="14039"/>
                </a:moveTo>
                <a:cubicBezTo>
                  <a:pt x="15252" y="14589"/>
                  <a:pt x="15934" y="15098"/>
                  <a:pt x="16594" y="15627"/>
                </a:cubicBezTo>
                <a:cubicBezTo>
                  <a:pt x="17039" y="15984"/>
                  <a:pt x="17514" y="16274"/>
                  <a:pt x="17983" y="16594"/>
                </a:cubicBezTo>
                <a:cubicBezTo>
                  <a:pt x="18141" y="16702"/>
                  <a:pt x="18099" y="16736"/>
                  <a:pt x="17983" y="1652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27800" y="4500720"/>
            <a:ext cx="588960" cy="1777680"/>
          </a:xfrm>
          <a:custGeom>
            <a:avLst/>
            <a:gdLst/>
            <a:ahLst/>
            <a:rect l="l" t="t" r="r" b="b"/>
            <a:pathLst>
              <a:path w="1638" h="4937">
                <a:moveTo>
                  <a:pt x="16991" y="12502"/>
                </a:moveTo>
                <a:cubicBezTo>
                  <a:pt x="16919" y="12819"/>
                  <a:pt x="16852" y="13166"/>
                  <a:pt x="16743" y="13469"/>
                </a:cubicBezTo>
                <a:cubicBezTo>
                  <a:pt x="16499" y="14148"/>
                  <a:pt x="16127" y="14776"/>
                  <a:pt x="15875" y="15453"/>
                </a:cubicBezTo>
                <a:cubicBezTo>
                  <a:pt x="15658" y="16035"/>
                  <a:pt x="15478" y="16626"/>
                  <a:pt x="15379" y="17239"/>
                </a:cubicBezTo>
                <a:cubicBezTo>
                  <a:pt x="15371" y="17305"/>
                  <a:pt x="15362" y="17372"/>
                  <a:pt x="15354" y="1743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PW 41 2-18 even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062080" y="3848040"/>
            <a:ext cx="5073840" cy="669960"/>
          </a:xfrm>
          <a:custGeom>
            <a:avLst/>
            <a:gdLst/>
            <a:ahLst/>
            <a:rect l="l" t="t" r="r" b="b"/>
            <a:pathLst>
              <a:path w="14090" h="1861">
                <a:moveTo>
                  <a:pt x="6127" y="10765"/>
                </a:moveTo>
                <a:cubicBezTo>
                  <a:pt x="6106" y="10989"/>
                  <a:pt x="6067" y="11213"/>
                  <a:pt x="6028" y="11435"/>
                </a:cubicBezTo>
                <a:cubicBezTo>
                  <a:pt x="6020" y="11476"/>
                  <a:pt x="6011" y="11518"/>
                  <a:pt x="6003" y="11559"/>
                </a:cubicBezTo>
              </a:path>
              <a:path w="14090" h="1861">
                <a:moveTo>
                  <a:pt x="5730" y="11112"/>
                </a:moveTo>
                <a:cubicBezTo>
                  <a:pt x="5988" y="11083"/>
                  <a:pt x="6239" y="11063"/>
                  <a:pt x="6499" y="11063"/>
                </a:cubicBezTo>
                <a:cubicBezTo>
                  <a:pt x="6507" y="11063"/>
                  <a:pt x="6516" y="11063"/>
                  <a:pt x="6524" y="11063"/>
                </a:cubicBezTo>
              </a:path>
              <a:path w="14090" h="1861">
                <a:moveTo>
                  <a:pt x="6424" y="10691"/>
                </a:moveTo>
                <a:cubicBezTo>
                  <a:pt x="6224" y="10834"/>
                  <a:pt x="6081" y="11079"/>
                  <a:pt x="5928" y="11286"/>
                </a:cubicBezTo>
                <a:cubicBezTo>
                  <a:pt x="5841" y="11404"/>
                  <a:pt x="5829" y="11501"/>
                  <a:pt x="5829" y="11311"/>
                </a:cubicBezTo>
              </a:path>
              <a:path w="14090" h="1861">
                <a:moveTo>
                  <a:pt x="5829" y="10716"/>
                </a:moveTo>
                <a:cubicBezTo>
                  <a:pt x="5829" y="10797"/>
                  <a:pt x="5989" y="11032"/>
                  <a:pt x="6028" y="11088"/>
                </a:cubicBezTo>
                <a:cubicBezTo>
                  <a:pt x="6106" y="11201"/>
                  <a:pt x="6208" y="11308"/>
                  <a:pt x="6300" y="11410"/>
                </a:cubicBezTo>
              </a:path>
              <a:path w="14090" h="1861">
                <a:moveTo>
                  <a:pt x="19372" y="10765"/>
                </a:moveTo>
                <a:cubicBezTo>
                  <a:pt x="19372" y="10690"/>
                  <a:pt x="19351" y="10814"/>
                  <a:pt x="19348" y="10889"/>
                </a:cubicBezTo>
                <a:cubicBezTo>
                  <a:pt x="19338" y="11123"/>
                  <a:pt x="19342" y="11352"/>
                  <a:pt x="19323" y="11584"/>
                </a:cubicBezTo>
              </a:path>
              <a:path w="14090" h="1861">
                <a:moveTo>
                  <a:pt x="18976" y="11162"/>
                </a:moveTo>
                <a:cubicBezTo>
                  <a:pt x="19224" y="11112"/>
                  <a:pt x="19467" y="11093"/>
                  <a:pt x="19720" y="11088"/>
                </a:cubicBezTo>
                <a:cubicBezTo>
                  <a:pt x="19761" y="11087"/>
                  <a:pt x="19835" y="11088"/>
                  <a:pt x="19794" y="11088"/>
                </a:cubicBezTo>
              </a:path>
              <a:path w="14090" h="1861">
                <a:moveTo>
                  <a:pt x="19769" y="10740"/>
                </a:moveTo>
                <a:cubicBezTo>
                  <a:pt x="19536" y="10916"/>
                  <a:pt x="19353" y="11128"/>
                  <a:pt x="19149" y="11336"/>
                </a:cubicBezTo>
                <a:cubicBezTo>
                  <a:pt x="19053" y="11432"/>
                  <a:pt x="19030" y="11437"/>
                  <a:pt x="19000" y="11509"/>
                </a:cubicBezTo>
              </a:path>
              <a:path w="14090" h="1861">
                <a:moveTo>
                  <a:pt x="19075" y="10815"/>
                </a:moveTo>
                <a:cubicBezTo>
                  <a:pt x="19253" y="10948"/>
                  <a:pt x="19362" y="11176"/>
                  <a:pt x="19496" y="11361"/>
                </a:cubicBezTo>
                <a:cubicBezTo>
                  <a:pt x="19533" y="11412"/>
                  <a:pt x="19667" y="11536"/>
                  <a:pt x="19695" y="11584"/>
                </a:cubicBezTo>
                <a:cubicBezTo>
                  <a:pt x="19695" y="11592"/>
                  <a:pt x="19695" y="11601"/>
                  <a:pt x="19695" y="11609"/>
                </a:cubicBezTo>
              </a:path>
              <a:path w="14090" h="1861">
                <a:moveTo>
                  <a:pt x="6896" y="12402"/>
                </a:moveTo>
                <a:cubicBezTo>
                  <a:pt x="7031" y="12411"/>
                  <a:pt x="7157" y="12405"/>
                  <a:pt x="7293" y="12402"/>
                </a:cubicBezTo>
                <a:cubicBezTo>
                  <a:pt x="7854" y="12390"/>
                  <a:pt x="8422" y="12430"/>
                  <a:pt x="8979" y="12378"/>
                </a:cubicBezTo>
                <a:cubicBezTo>
                  <a:pt x="9121" y="12365"/>
                  <a:pt x="9258" y="12355"/>
                  <a:pt x="9401" y="12353"/>
                </a:cubicBezTo>
                <a:cubicBezTo>
                  <a:pt x="9570" y="12351"/>
                  <a:pt x="9730" y="12373"/>
                  <a:pt x="9897" y="12378"/>
                </a:cubicBezTo>
                <a:cubicBezTo>
                  <a:pt x="10237" y="12388"/>
                  <a:pt x="10577" y="12369"/>
                  <a:pt x="10914" y="12402"/>
                </a:cubicBezTo>
                <a:cubicBezTo>
                  <a:pt x="11048" y="12415"/>
                  <a:pt x="11175" y="12425"/>
                  <a:pt x="11311" y="12427"/>
                </a:cubicBezTo>
                <a:cubicBezTo>
                  <a:pt x="11594" y="12430"/>
                  <a:pt x="11873" y="12412"/>
                  <a:pt x="12154" y="12402"/>
                </a:cubicBezTo>
                <a:cubicBezTo>
                  <a:pt x="12329" y="12396"/>
                  <a:pt x="12506" y="12402"/>
                  <a:pt x="12675" y="12402"/>
                </a:cubicBezTo>
                <a:cubicBezTo>
                  <a:pt x="12856" y="12402"/>
                  <a:pt x="13037" y="12412"/>
                  <a:pt x="13221" y="12427"/>
                </a:cubicBezTo>
                <a:cubicBezTo>
                  <a:pt x="13419" y="12443"/>
                  <a:pt x="13617" y="12465"/>
                  <a:pt x="13816" y="12477"/>
                </a:cubicBezTo>
                <a:cubicBezTo>
                  <a:pt x="14056" y="12491"/>
                  <a:pt x="14296" y="12513"/>
                  <a:pt x="14536" y="12526"/>
                </a:cubicBezTo>
                <a:cubicBezTo>
                  <a:pt x="14744" y="12537"/>
                  <a:pt x="14948" y="12549"/>
                  <a:pt x="15156" y="12551"/>
                </a:cubicBezTo>
                <a:cubicBezTo>
                  <a:pt x="15649" y="12557"/>
                  <a:pt x="16162" y="12571"/>
                  <a:pt x="16644" y="12551"/>
                </a:cubicBezTo>
                <a:cubicBezTo>
                  <a:pt x="16754" y="12547"/>
                  <a:pt x="16856" y="12529"/>
                  <a:pt x="16966" y="12526"/>
                </a:cubicBezTo>
                <a:cubicBezTo>
                  <a:pt x="17103" y="12523"/>
                  <a:pt x="17230" y="12518"/>
                  <a:pt x="17363" y="12502"/>
                </a:cubicBezTo>
                <a:cubicBezTo>
                  <a:pt x="17473" y="12489"/>
                  <a:pt x="17576" y="12460"/>
                  <a:pt x="17686" y="12452"/>
                </a:cubicBezTo>
                <a:cubicBezTo>
                  <a:pt x="17844" y="12441"/>
                  <a:pt x="18000" y="12442"/>
                  <a:pt x="18157" y="12427"/>
                </a:cubicBezTo>
              </a:path>
              <a:path w="14090" h="1861">
                <a:moveTo>
                  <a:pt x="11708" y="12204"/>
                </a:moveTo>
                <a:cubicBezTo>
                  <a:pt x="11775" y="12229"/>
                  <a:pt x="11850" y="12267"/>
                  <a:pt x="11931" y="12278"/>
                </a:cubicBezTo>
                <a:cubicBezTo>
                  <a:pt x="12117" y="12303"/>
                  <a:pt x="12316" y="12284"/>
                  <a:pt x="12502" y="12303"/>
                </a:cubicBezTo>
                <a:cubicBezTo>
                  <a:pt x="12768" y="12330"/>
                  <a:pt x="13060" y="12307"/>
                  <a:pt x="13320" y="12278"/>
                </a:cubicBezTo>
                <a:cubicBezTo>
                  <a:pt x="13419" y="12267"/>
                  <a:pt x="13519" y="12266"/>
                  <a:pt x="13618" y="12254"/>
                </a:cubicBezTo>
                <a:cubicBezTo>
                  <a:pt x="13881" y="12223"/>
                  <a:pt x="14157" y="12289"/>
                  <a:pt x="14412" y="12229"/>
                </a:cubicBezTo>
                <a:cubicBezTo>
                  <a:pt x="14420" y="12229"/>
                  <a:pt x="14428" y="12229"/>
                  <a:pt x="14436" y="12229"/>
                </a:cubicBezTo>
              </a:path>
              <a:path w="14090" h="1861">
                <a:moveTo>
                  <a:pt x="15354" y="12179"/>
                </a:moveTo>
                <a:cubicBezTo>
                  <a:pt x="15346" y="12196"/>
                  <a:pt x="15337" y="12212"/>
                  <a:pt x="15329" y="12229"/>
                </a:cubicBezTo>
                <a:cubicBezTo>
                  <a:pt x="15404" y="12237"/>
                  <a:pt x="15478" y="12243"/>
                  <a:pt x="15553" y="12254"/>
                </a:cubicBezTo>
                <a:cubicBezTo>
                  <a:pt x="15708" y="12277"/>
                  <a:pt x="15868" y="12314"/>
                  <a:pt x="16024" y="12328"/>
                </a:cubicBezTo>
                <a:cubicBezTo>
                  <a:pt x="16091" y="12334"/>
                  <a:pt x="16275" y="12337"/>
                  <a:pt x="16321" y="12328"/>
                </a:cubicBezTo>
                <a:cubicBezTo>
                  <a:pt x="16403" y="12312"/>
                  <a:pt x="16485" y="12317"/>
                  <a:pt x="16570" y="12303"/>
                </a:cubicBezTo>
                <a:cubicBezTo>
                  <a:pt x="16675" y="12285"/>
                  <a:pt x="16787" y="12273"/>
                  <a:pt x="16892" y="12254"/>
                </a:cubicBezTo>
                <a:cubicBezTo>
                  <a:pt x="17006" y="12233"/>
                  <a:pt x="17125" y="12217"/>
                  <a:pt x="17239" y="12204"/>
                </a:cubicBezTo>
                <a:cubicBezTo>
                  <a:pt x="17378" y="12188"/>
                  <a:pt x="17523" y="12193"/>
                  <a:pt x="17661" y="12179"/>
                </a:cubicBezTo>
                <a:cubicBezTo>
                  <a:pt x="17783" y="12167"/>
                  <a:pt x="17910" y="12179"/>
                  <a:pt x="18033" y="1217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5T20:28:32Z</dcterms:modified>
  <cp:revision>30</cp:revision>
  <dc:subject/>
  <dc:title>Unit 1 – Variables and Equations </dc:title>
</cp:coreProperties>
</file>